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Text Box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6532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2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9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A91450-B563-4036-8F73-EFA705FCFFEE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3894CB-5EFF-443E-929B-990867ADA2DF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5FE122-B4AD-45B7-BA57-1A78EEE585EF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BD1F76-7C5E-4F40-AC0D-CE1A036A6DC8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05780F-867C-4498-A381-7831B7DB5F46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4BDECD-A50D-474C-AC38-02BFB69A0F2F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C16738-AC80-4935-8C66-B2B0F589A568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0E665C-3E28-4849-8F48-D1F11A87D6D5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4B33E7-C0F7-4E03-A102-B36FF3DEB7BA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3BF4CD-180C-45D4-A33F-61BCD0C3F6DD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8E3C3B-C6D6-4FD7-AA2B-DD848DAEFECF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C25829-E804-4743-8AA1-4BF1D8C2982E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A5F593-F07D-4B16-84E9-F6428D245C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5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659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659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1AC5A2-A11D-48FB-AF3B-523B935764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5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897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5240" y="1980720"/>
            <a:ext cx="37897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897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5240" y="4192200"/>
            <a:ext cx="37897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35FCA6-9778-4DE1-BF45-F1E1A32553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5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05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1640" y="1980720"/>
            <a:ext cx="25005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7840" y="1980720"/>
            <a:ext cx="25005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05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1640" y="4192200"/>
            <a:ext cx="25005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7840" y="4192200"/>
            <a:ext cx="25005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CDF0B8-A5AC-45BF-892D-2038E1D8FDC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5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6592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D4CAC9-04FF-4D75-BCBA-4D62F51C1E6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5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6592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F76246-9E5E-4E45-97F0-1D81148EA1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5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8972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5240" y="1980720"/>
            <a:ext cx="378972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E67012-A8E8-4093-84C9-FBBAE91F73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5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638E4C-AE01-4B4C-8969-A03BEC15B7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63680"/>
            <a:ext cx="77659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5CFAAA-D171-4892-BCD5-D7C7DC2C4D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5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897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5240" y="1980720"/>
            <a:ext cx="378972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897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160319-F923-4180-BFCD-4DC7C74645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5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8972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5240" y="1980720"/>
            <a:ext cx="37897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5240" y="4192200"/>
            <a:ext cx="37897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609781-C985-4ACE-B1D4-B4B6FAAF88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5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897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240" y="1980720"/>
            <a:ext cx="37897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659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2277E0-9373-4455-8C14-BB7D21F32F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5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6592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685800" y="6248520"/>
            <a:ext cx="190512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248520"/>
            <a:ext cx="289584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3080" y="6248520"/>
            <a:ext cx="189864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E893B16-E9C1-4ED0-B1A6-CC8DBB956DE3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.jpe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7.xml"/><Relationship Id="rId3" Type="http://schemas.openxmlformats.org/officeDocument/2006/relationships/slide" Target="slide9.xml"/><Relationship Id="rId4" Type="http://schemas.openxmlformats.org/officeDocument/2006/relationships/slide" Target="slide9.xml"/><Relationship Id="rId5" Type="http://schemas.openxmlformats.org/officeDocument/2006/relationships/slide" Target="slide11.xml"/><Relationship Id="rId6" Type="http://schemas.openxmlformats.org/officeDocument/2006/relationships/slide" Target="slide11.xml"/><Relationship Id="rId7" Type="http://schemas.openxmlformats.org/officeDocument/2006/relationships/slide" Target="slide4.xml"/><Relationship Id="rId8" Type="http://schemas.openxmlformats.org/officeDocument/2006/relationships/slide" Target="slide4.xml"/><Relationship Id="rId9" Type="http://schemas.openxmlformats.org/officeDocument/2006/relationships/slide" Target="slide6.xml"/><Relationship Id="rId10" Type="http://schemas.openxmlformats.org/officeDocument/2006/relationships/slide" Target="slide6.xml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5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1"/>
          <p:cNvGrpSpPr/>
          <p:nvPr/>
        </p:nvGrpSpPr>
        <p:grpSpPr>
          <a:xfrm>
            <a:off x="-360" y="0"/>
            <a:ext cx="9144360" cy="6858000"/>
            <a:chOff x="-360" y="0"/>
            <a:chExt cx="9144360" cy="6858000"/>
          </a:xfrm>
        </p:grpSpPr>
        <p:sp>
          <p:nvSpPr>
            <p:cNvPr id="53" name="AutoShape 2"/>
            <p:cNvSpPr/>
            <p:nvPr/>
          </p:nvSpPr>
          <p:spPr>
            <a:xfrm rot="5400000">
              <a:off x="-571680" y="571320"/>
              <a:ext cx="2208240" cy="1065240"/>
            </a:xfrm>
            <a:prstGeom prst="rtTriangl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Text Box 3"/>
            <p:cNvSpPr/>
            <p:nvPr/>
          </p:nvSpPr>
          <p:spPr>
            <a:xfrm>
              <a:off x="4680" y="9360"/>
              <a:ext cx="91296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UNIDAD</a:t>
              </a:r>
              <a:br>
                <a:rPr sz="1200"/>
              </a:br>
              <a:r>
                <a:rPr b="1" lang="es-ES" sz="4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4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Text Box 4"/>
            <p:cNvSpPr/>
            <p:nvPr/>
          </p:nvSpPr>
          <p:spPr>
            <a:xfrm>
              <a:off x="988920" y="100080"/>
              <a:ext cx="686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2800" spc="-1" strike="noStrike">
                  <a:solidFill>
                    <a:srgbClr val="333399"/>
                  </a:solidFill>
                  <a:latin typeface="Arial"/>
                </a:rPr>
                <a:t>La función de nutrición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Text Box 5"/>
            <p:cNvSpPr/>
            <p:nvPr/>
          </p:nvSpPr>
          <p:spPr>
            <a:xfrm>
              <a:off x="81000" y="6410160"/>
              <a:ext cx="655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1600" spc="-1" strike="noStrike">
                  <a:solidFill>
                    <a:srgbClr val="ff790b"/>
                  </a:solidFill>
                  <a:latin typeface="Arial"/>
                </a:rPr>
                <a:t>Ciencias de la Naturaleza 2.º ES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57" name="Picture 6" descr=""/>
            <p:cNvPicPr/>
            <p:nvPr/>
          </p:nvPicPr>
          <p:blipFill>
            <a:blip r:embed="rId1"/>
            <a:stretch/>
          </p:blipFill>
          <p:spPr>
            <a:xfrm>
              <a:off x="7432560" y="6280200"/>
              <a:ext cx="1711440" cy="57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Text Box 7"/>
            <p:cNvSpPr/>
            <p:nvPr/>
          </p:nvSpPr>
          <p:spPr>
            <a:xfrm>
              <a:off x="1833480" y="2676600"/>
              <a:ext cx="56977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2800" spc="-1" strike="noStrike">
                  <a:solidFill>
                    <a:srgbClr val="008200"/>
                  </a:solidFill>
                  <a:latin typeface="Arial"/>
                </a:rPr>
                <a:t>LOS PROCESOS DE</a:t>
              </a:r>
              <a:br>
                <a:rPr sz="2800"/>
              </a:br>
              <a:r>
                <a:rPr b="1" lang="es-ES" sz="2800" spc="-1" strike="noStrike">
                  <a:solidFill>
                    <a:srgbClr val="008200"/>
                  </a:solidFill>
                  <a:latin typeface="Arial"/>
                </a:rPr>
                <a:t> LA NUTRICIÓN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1" descr=""/>
          <p:cNvPicPr/>
          <p:nvPr/>
        </p:nvPicPr>
        <p:blipFill>
          <a:blip r:embed="rId1"/>
          <a:stretch/>
        </p:blipFill>
        <p:spPr>
          <a:xfrm>
            <a:off x="4716360" y="2924280"/>
            <a:ext cx="2638440" cy="3384360"/>
          </a:xfrm>
          <a:prstGeom prst="rect">
            <a:avLst/>
          </a:prstGeom>
          <a:ln w="0">
            <a:noFill/>
          </a:ln>
        </p:spPr>
      </p:pic>
      <p:grpSp>
        <p:nvGrpSpPr>
          <p:cNvPr id="221" name="Group 2"/>
          <p:cNvGrpSpPr/>
          <p:nvPr/>
        </p:nvGrpSpPr>
        <p:grpSpPr>
          <a:xfrm>
            <a:off x="-360" y="0"/>
            <a:ext cx="9144360" cy="6858000"/>
            <a:chOff x="-360" y="0"/>
            <a:chExt cx="9144360" cy="6858000"/>
          </a:xfrm>
        </p:grpSpPr>
        <p:sp>
          <p:nvSpPr>
            <p:cNvPr id="222" name="AutoShape 3"/>
            <p:cNvSpPr/>
            <p:nvPr/>
          </p:nvSpPr>
          <p:spPr>
            <a:xfrm rot="5400000">
              <a:off x="-571680" y="571320"/>
              <a:ext cx="2208240" cy="1065240"/>
            </a:xfrm>
            <a:prstGeom prst="rtTriangl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Text Box 4"/>
            <p:cNvSpPr/>
            <p:nvPr/>
          </p:nvSpPr>
          <p:spPr>
            <a:xfrm>
              <a:off x="0" y="0"/>
              <a:ext cx="91296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UNIDAD</a:t>
              </a:r>
              <a:br>
                <a:rPr sz="1200"/>
              </a:br>
              <a:r>
                <a:rPr b="1" lang="es-ES" sz="4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4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Text Box 5"/>
            <p:cNvSpPr/>
            <p:nvPr/>
          </p:nvSpPr>
          <p:spPr>
            <a:xfrm>
              <a:off x="984240" y="90360"/>
              <a:ext cx="686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2800" spc="-1" strike="noStrike">
                  <a:solidFill>
                    <a:srgbClr val="333399"/>
                  </a:solidFill>
                  <a:latin typeface="Arial"/>
                </a:rPr>
                <a:t>Los procesos de la nutrición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Text Box 6"/>
            <p:cNvSpPr/>
            <p:nvPr/>
          </p:nvSpPr>
          <p:spPr>
            <a:xfrm>
              <a:off x="76320" y="6400800"/>
              <a:ext cx="655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1600" spc="-1" strike="noStrike">
                  <a:solidFill>
                    <a:srgbClr val="ff790b"/>
                  </a:solidFill>
                  <a:latin typeface="Arial"/>
                </a:rPr>
                <a:t>Ciencias de la Naturaleza 2.º ES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26" name="Picture 7" descr=""/>
            <p:cNvPicPr/>
            <p:nvPr/>
          </p:nvPicPr>
          <p:blipFill>
            <a:blip r:embed="rId2"/>
            <a:stretch/>
          </p:blipFill>
          <p:spPr>
            <a:xfrm>
              <a:off x="7432560" y="6280200"/>
              <a:ext cx="1711440" cy="577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7" name="Text Box 8"/>
          <p:cNvSpPr/>
          <p:nvPr/>
        </p:nvSpPr>
        <p:spPr>
          <a:xfrm>
            <a:off x="971640" y="105264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8700"/>
                </a:solidFill>
                <a:latin typeface="Arial"/>
              </a:rPr>
              <a:t>Distribución de sustancias en seres pluricelula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Text Box 9"/>
          <p:cNvSpPr/>
          <p:nvPr/>
        </p:nvSpPr>
        <p:spPr>
          <a:xfrm>
            <a:off x="971640" y="1563840"/>
            <a:ext cx="7200720" cy="17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n seres pluricelulares, existen partes del cuerpo especializadas en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Geneva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Geneva"/>
              </a:rPr>
              <a:t>Tomar o expulsar sustancia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Geneva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Geneva"/>
              </a:rPr>
              <a:t>Transportar sustancia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9" name="Picture 10" descr=""/>
          <p:cNvPicPr/>
          <p:nvPr/>
        </p:nvPicPr>
        <p:blipFill>
          <a:blip r:embed="rId3"/>
          <a:stretch/>
        </p:blipFill>
        <p:spPr>
          <a:xfrm>
            <a:off x="1908000" y="3284640"/>
            <a:ext cx="2808360" cy="2952720"/>
          </a:xfrm>
          <a:prstGeom prst="rect">
            <a:avLst/>
          </a:prstGeom>
          <a:ln w="0">
            <a:noFill/>
          </a:ln>
        </p:spPr>
      </p:pic>
      <p:sp>
        <p:nvSpPr>
          <p:cNvPr id="230" name="Text Box 11"/>
          <p:cNvSpPr/>
          <p:nvPr/>
        </p:nvSpPr>
        <p:spPr>
          <a:xfrm>
            <a:off x="179280" y="5516640"/>
            <a:ext cx="1944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008700"/>
                </a:solidFill>
                <a:latin typeface="Arial"/>
              </a:rPr>
              <a:t>Aparato digestivo de un av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Text Box 12"/>
          <p:cNvSpPr/>
          <p:nvPr/>
        </p:nvSpPr>
        <p:spPr>
          <a:xfrm>
            <a:off x="7164360" y="5334120"/>
            <a:ext cx="1871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008700"/>
                </a:solidFill>
                <a:latin typeface="Arial"/>
              </a:rPr>
              <a:t>Sistema circulatorio de un pez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AutoShape 13"/>
          <p:cNvSpPr/>
          <p:nvPr/>
        </p:nvSpPr>
        <p:spPr>
          <a:xfrm>
            <a:off x="3995640" y="6237360"/>
            <a:ext cx="432000" cy="43164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18" h="21600">
                <a:moveTo>
                  <a:pt x="0" y="0"/>
                </a:moveTo>
                <a:lnTo>
                  <a:pt x="21618" y="0"/>
                </a:lnTo>
                <a:lnTo>
                  <a:pt x="21618" y="21600"/>
                </a:lnTo>
                <a:lnTo>
                  <a:pt x="0" y="21600"/>
                </a:lnTo>
                <a:close/>
              </a:path>
              <a:path fill="lightenLess" w="21618" h="21600">
                <a:moveTo>
                  <a:pt x="0" y="0"/>
                </a:moveTo>
                <a:lnTo>
                  <a:pt x="21618" y="0"/>
                </a:lnTo>
                <a:lnTo>
                  <a:pt x="20218" y="1400"/>
                </a:lnTo>
                <a:lnTo>
                  <a:pt x="1400" y="1400"/>
                </a:lnTo>
                <a:close/>
              </a:path>
              <a:path fill="darken" w="21618" h="21600">
                <a:moveTo>
                  <a:pt x="21618" y="0"/>
                </a:moveTo>
                <a:lnTo>
                  <a:pt x="21618" y="21600"/>
                </a:lnTo>
                <a:lnTo>
                  <a:pt x="20218" y="20200"/>
                </a:lnTo>
                <a:lnTo>
                  <a:pt x="20218" y="1400"/>
                </a:lnTo>
                <a:close/>
              </a:path>
              <a:path fill="darkenLess" w="21618" h="21600">
                <a:moveTo>
                  <a:pt x="216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8" y="20200"/>
                </a:lnTo>
                <a:close/>
              </a:path>
              <a:path fill="lighten" w="216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8" h="21600">
                <a:moveTo>
                  <a:pt x="7310" y="10800"/>
                </a:moveTo>
                <a:lnTo>
                  <a:pt x="17815" y="3794"/>
                </a:lnTo>
                <a:lnTo>
                  <a:pt x="17815" y="17806"/>
                </a:lnTo>
                <a:close/>
              </a:path>
              <a:path fill="darken" w="21618" h="21600">
                <a:moveTo>
                  <a:pt x="3803" y="3794"/>
                </a:moveTo>
                <a:lnTo>
                  <a:pt x="5465" y="3794"/>
                </a:lnTo>
                <a:lnTo>
                  <a:pt x="5465" y="17806"/>
                </a:lnTo>
                <a:lnTo>
                  <a:pt x="3803" y="17806"/>
                </a:lnTo>
                <a:close/>
              </a:path>
            </a:pathLst>
          </a:custGeom>
          <a:solidFill>
            <a:srgbClr val="92d050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Text Box 14"/>
          <p:cNvSpPr/>
          <p:nvPr/>
        </p:nvSpPr>
        <p:spPr>
          <a:xfrm>
            <a:off x="4427640" y="6308640"/>
            <a:ext cx="201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33cc"/>
                </a:solidFill>
                <a:latin typeface="Times New Roman"/>
              </a:rPr>
              <a:t>Volver al menú inicia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5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500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0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3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Picture 1" descr=""/>
          <p:cNvPicPr/>
          <p:nvPr/>
        </p:nvPicPr>
        <p:blipFill>
          <a:blip r:embed="rId1"/>
          <a:stretch/>
        </p:blipFill>
        <p:spPr>
          <a:xfrm>
            <a:off x="2411280" y="2565360"/>
            <a:ext cx="3456000" cy="3611520"/>
          </a:xfrm>
          <a:prstGeom prst="rect">
            <a:avLst/>
          </a:prstGeom>
          <a:ln w="0">
            <a:noFill/>
          </a:ln>
        </p:spPr>
      </p:pic>
      <p:grpSp>
        <p:nvGrpSpPr>
          <p:cNvPr id="235" name="Group 2"/>
          <p:cNvGrpSpPr/>
          <p:nvPr/>
        </p:nvGrpSpPr>
        <p:grpSpPr>
          <a:xfrm>
            <a:off x="-360" y="0"/>
            <a:ext cx="9144360" cy="6858000"/>
            <a:chOff x="-360" y="0"/>
            <a:chExt cx="9144360" cy="6858000"/>
          </a:xfrm>
        </p:grpSpPr>
        <p:sp>
          <p:nvSpPr>
            <p:cNvPr id="236" name="AutoShape 3"/>
            <p:cNvSpPr/>
            <p:nvPr/>
          </p:nvSpPr>
          <p:spPr>
            <a:xfrm rot="5400000">
              <a:off x="-571680" y="571320"/>
              <a:ext cx="2208240" cy="1065240"/>
            </a:xfrm>
            <a:prstGeom prst="rtTriangl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Text Box 4"/>
            <p:cNvSpPr/>
            <p:nvPr/>
          </p:nvSpPr>
          <p:spPr>
            <a:xfrm>
              <a:off x="0" y="0"/>
              <a:ext cx="91296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UNIDAD</a:t>
              </a:r>
              <a:br>
                <a:rPr sz="1200"/>
              </a:br>
              <a:r>
                <a:rPr b="1" lang="es-ES" sz="4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4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" name="Text Box 5"/>
            <p:cNvSpPr/>
            <p:nvPr/>
          </p:nvSpPr>
          <p:spPr>
            <a:xfrm>
              <a:off x="984240" y="90360"/>
              <a:ext cx="686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2800" spc="-1" strike="noStrike">
                  <a:solidFill>
                    <a:srgbClr val="333399"/>
                  </a:solidFill>
                  <a:latin typeface="Arial"/>
                </a:rPr>
                <a:t>Los procesos de la nutrición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" name="Text Box 6"/>
            <p:cNvSpPr/>
            <p:nvPr/>
          </p:nvSpPr>
          <p:spPr>
            <a:xfrm>
              <a:off x="76320" y="6400800"/>
              <a:ext cx="655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1600" spc="-1" strike="noStrike">
                  <a:solidFill>
                    <a:srgbClr val="ff790b"/>
                  </a:solidFill>
                  <a:latin typeface="Arial"/>
                </a:rPr>
                <a:t>Ciencias de la Naturaleza 2.º ES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40" name="Picture 7" descr=""/>
            <p:cNvPicPr/>
            <p:nvPr/>
          </p:nvPicPr>
          <p:blipFill>
            <a:blip r:embed="rId2"/>
            <a:stretch/>
          </p:blipFill>
          <p:spPr>
            <a:xfrm>
              <a:off x="7432560" y="6280200"/>
              <a:ext cx="1711440" cy="577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1" name="Text Box 8"/>
          <p:cNvSpPr/>
          <p:nvPr/>
        </p:nvSpPr>
        <p:spPr>
          <a:xfrm>
            <a:off x="971640" y="1052640"/>
            <a:ext cx="705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8700"/>
                </a:solidFill>
                <a:latin typeface="Arial"/>
              </a:rPr>
              <a:t>Excre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Text Box 9"/>
          <p:cNvSpPr/>
          <p:nvPr/>
        </p:nvSpPr>
        <p:spPr>
          <a:xfrm>
            <a:off x="971640" y="1563840"/>
            <a:ext cx="720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s el proceso mediante el cual los seres vivos expulsan de su cuerpo los desechos que generan sus actividad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Text Box 10"/>
          <p:cNvSpPr/>
          <p:nvPr/>
        </p:nvSpPr>
        <p:spPr>
          <a:xfrm>
            <a:off x="5940360" y="5508720"/>
            <a:ext cx="1871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008700"/>
                </a:solidFill>
                <a:latin typeface="Arial"/>
              </a:rPr>
              <a:t>Aparato excretor de un repti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AutoShape 11"/>
          <p:cNvSpPr/>
          <p:nvPr/>
        </p:nvSpPr>
        <p:spPr>
          <a:xfrm>
            <a:off x="4572000" y="6237360"/>
            <a:ext cx="431640" cy="4316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92d050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Text Box 12"/>
          <p:cNvSpPr/>
          <p:nvPr/>
        </p:nvSpPr>
        <p:spPr>
          <a:xfrm>
            <a:off x="4932360" y="6308640"/>
            <a:ext cx="201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33cc"/>
                </a:solidFill>
                <a:latin typeface="Times New Roman"/>
              </a:rPr>
              <a:t>Volver al menú inicia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3" dur="5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9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38 Grupo"/>
          <p:cNvGrpSpPr/>
          <p:nvPr/>
        </p:nvGrpSpPr>
        <p:grpSpPr>
          <a:xfrm>
            <a:off x="1547640" y="1773360"/>
            <a:ext cx="6266160" cy="1150920"/>
            <a:chOff x="1547640" y="1773360"/>
            <a:chExt cx="6266160" cy="1150920"/>
          </a:xfrm>
        </p:grpSpPr>
        <p:sp>
          <p:nvSpPr>
            <p:cNvPr id="60" name="Line 1"/>
            <p:cNvSpPr/>
            <p:nvPr/>
          </p:nvSpPr>
          <p:spPr>
            <a:xfrm>
              <a:off x="1547640" y="2276640"/>
              <a:ext cx="626472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Line 2"/>
            <p:cNvSpPr/>
            <p:nvPr/>
          </p:nvSpPr>
          <p:spPr>
            <a:xfrm>
              <a:off x="1547640" y="2276640"/>
              <a:ext cx="1440" cy="57636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Line 3"/>
            <p:cNvSpPr/>
            <p:nvPr/>
          </p:nvSpPr>
          <p:spPr>
            <a:xfrm>
              <a:off x="4427640" y="1773360"/>
              <a:ext cx="1440" cy="503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Line 4"/>
            <p:cNvSpPr/>
            <p:nvPr/>
          </p:nvSpPr>
          <p:spPr>
            <a:xfrm>
              <a:off x="3635280" y="2276640"/>
              <a:ext cx="1440" cy="57636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Line 5"/>
            <p:cNvSpPr/>
            <p:nvPr/>
          </p:nvSpPr>
          <p:spPr>
            <a:xfrm>
              <a:off x="5724720" y="2276640"/>
              <a:ext cx="1440" cy="6476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Line 6"/>
            <p:cNvSpPr/>
            <p:nvPr/>
          </p:nvSpPr>
          <p:spPr>
            <a:xfrm>
              <a:off x="7812360" y="2276640"/>
              <a:ext cx="1440" cy="6476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6" name="39 Grupo"/>
          <p:cNvGrpSpPr/>
          <p:nvPr/>
        </p:nvGrpSpPr>
        <p:grpSpPr>
          <a:xfrm>
            <a:off x="1332000" y="3278160"/>
            <a:ext cx="2089080" cy="1446120"/>
            <a:chOff x="1332000" y="3278160"/>
            <a:chExt cx="2089080" cy="1446120"/>
          </a:xfrm>
        </p:grpSpPr>
        <p:sp>
          <p:nvSpPr>
            <p:cNvPr id="67" name="Line 7"/>
            <p:cNvSpPr/>
            <p:nvPr/>
          </p:nvSpPr>
          <p:spPr>
            <a:xfrm>
              <a:off x="1332000" y="4076640"/>
              <a:ext cx="208764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Line 8"/>
            <p:cNvSpPr/>
            <p:nvPr/>
          </p:nvSpPr>
          <p:spPr>
            <a:xfrm flipV="1">
              <a:off x="1619280" y="3278160"/>
              <a:ext cx="1440" cy="80496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Line 9"/>
            <p:cNvSpPr/>
            <p:nvPr/>
          </p:nvSpPr>
          <p:spPr>
            <a:xfrm>
              <a:off x="1332000" y="4076640"/>
              <a:ext cx="1440" cy="6476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Line 10"/>
            <p:cNvSpPr/>
            <p:nvPr/>
          </p:nvSpPr>
          <p:spPr>
            <a:xfrm>
              <a:off x="3419640" y="4076640"/>
              <a:ext cx="1440" cy="6476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1" name="Group 11"/>
          <p:cNvGrpSpPr/>
          <p:nvPr/>
        </p:nvGrpSpPr>
        <p:grpSpPr>
          <a:xfrm>
            <a:off x="-360" y="0"/>
            <a:ext cx="9144360" cy="6858000"/>
            <a:chOff x="-360" y="0"/>
            <a:chExt cx="9144360" cy="6858000"/>
          </a:xfrm>
        </p:grpSpPr>
        <p:sp>
          <p:nvSpPr>
            <p:cNvPr id="72" name="AutoShape 12"/>
            <p:cNvSpPr/>
            <p:nvPr/>
          </p:nvSpPr>
          <p:spPr>
            <a:xfrm rot="5400000">
              <a:off x="-571680" y="571320"/>
              <a:ext cx="2208240" cy="1065240"/>
            </a:xfrm>
            <a:prstGeom prst="rtTriangl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Text Box 13"/>
            <p:cNvSpPr/>
            <p:nvPr/>
          </p:nvSpPr>
          <p:spPr>
            <a:xfrm>
              <a:off x="0" y="0"/>
              <a:ext cx="91296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UNIDAD</a:t>
              </a:r>
              <a:br>
                <a:rPr sz="1200"/>
              </a:br>
              <a:r>
                <a:rPr b="1" lang="es-ES" sz="4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4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Text Box 14"/>
            <p:cNvSpPr/>
            <p:nvPr/>
          </p:nvSpPr>
          <p:spPr>
            <a:xfrm>
              <a:off x="984240" y="90360"/>
              <a:ext cx="686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2800" spc="-1" strike="noStrike">
                  <a:solidFill>
                    <a:srgbClr val="333399"/>
                  </a:solidFill>
                  <a:latin typeface="Arial"/>
                </a:rPr>
                <a:t>Los procesos de la nutrición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Text Box 15"/>
            <p:cNvSpPr/>
            <p:nvPr/>
          </p:nvSpPr>
          <p:spPr>
            <a:xfrm>
              <a:off x="76320" y="6400800"/>
              <a:ext cx="655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1600" spc="-1" strike="noStrike">
                  <a:solidFill>
                    <a:srgbClr val="ff790b"/>
                  </a:solidFill>
                  <a:latin typeface="Arial"/>
                </a:rPr>
                <a:t>Ciencias de la Naturaleza 2.º ES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76" name="Picture 16" descr=""/>
            <p:cNvPicPr/>
            <p:nvPr/>
          </p:nvPicPr>
          <p:blipFill>
            <a:blip r:embed="rId1"/>
            <a:stretch/>
          </p:blipFill>
          <p:spPr>
            <a:xfrm>
              <a:off x="7432560" y="6280200"/>
              <a:ext cx="1711440" cy="577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7" name="46 Grupo"/>
          <p:cNvGrpSpPr/>
          <p:nvPr/>
        </p:nvGrpSpPr>
        <p:grpSpPr>
          <a:xfrm>
            <a:off x="3492360" y="907920"/>
            <a:ext cx="2016360" cy="1008360"/>
            <a:chOff x="3492360" y="907920"/>
            <a:chExt cx="2016360" cy="1008360"/>
          </a:xfrm>
        </p:grpSpPr>
        <p:sp>
          <p:nvSpPr>
            <p:cNvPr id="78" name="AutoShape 17"/>
            <p:cNvSpPr/>
            <p:nvPr/>
          </p:nvSpPr>
          <p:spPr>
            <a:xfrm>
              <a:off x="3492360" y="907920"/>
              <a:ext cx="2016360" cy="1008360"/>
            </a:xfrm>
            <a:prstGeom prst="roundRect">
              <a:avLst>
                <a:gd name="adj" fmla="val 16667"/>
              </a:avLst>
            </a:prstGeom>
            <a:solidFill>
              <a:srgbClr val="92d050"/>
            </a:solidFill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Text Box 24"/>
            <p:cNvSpPr/>
            <p:nvPr/>
          </p:nvSpPr>
          <p:spPr>
            <a:xfrm>
              <a:off x="3572280" y="1197000"/>
              <a:ext cx="1855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Arial"/>
                </a:rPr>
                <a:t>NUTRICIÓ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0" name="40 Grupo"/>
          <p:cNvGrpSpPr/>
          <p:nvPr/>
        </p:nvGrpSpPr>
        <p:grpSpPr>
          <a:xfrm>
            <a:off x="395280" y="2492280"/>
            <a:ext cx="2089080" cy="1224000"/>
            <a:chOff x="395280" y="2492280"/>
            <a:chExt cx="2089080" cy="1224000"/>
          </a:xfrm>
        </p:grpSpPr>
        <p:sp>
          <p:nvSpPr>
            <p:cNvPr id="81" name="AutoShape 18"/>
            <p:cNvSpPr/>
            <p:nvPr/>
          </p:nvSpPr>
          <p:spPr>
            <a:xfrm>
              <a:off x="395280" y="2492280"/>
              <a:ext cx="2089080" cy="1224000"/>
            </a:xfrm>
            <a:prstGeom prst="roundRect">
              <a:avLst>
                <a:gd name="adj" fmla="val 16667"/>
              </a:avLst>
            </a:prstGeom>
            <a:solidFill>
              <a:srgbClr val="92d050"/>
            </a:solidFill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Text Box 25"/>
            <p:cNvSpPr/>
            <p:nvPr/>
          </p:nvSpPr>
          <p:spPr>
            <a:xfrm>
              <a:off x="467280" y="2780280"/>
              <a:ext cx="19216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Arial"/>
                </a:rPr>
                <a:t>OBTENCIÓN DE NUTRIENTE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3" name="41 Grupo"/>
          <p:cNvGrpSpPr/>
          <p:nvPr/>
        </p:nvGrpSpPr>
        <p:grpSpPr>
          <a:xfrm>
            <a:off x="2627280" y="2492280"/>
            <a:ext cx="2016000" cy="1224000"/>
            <a:chOff x="2627280" y="2492280"/>
            <a:chExt cx="2016000" cy="1224000"/>
          </a:xfrm>
        </p:grpSpPr>
        <p:sp>
          <p:nvSpPr>
            <p:cNvPr id="84" name="AutoShape 21">
              <a:hlinkClick r:id="rId2" action="ppaction://hlinksldjump"/>
            </p:cNvPr>
            <p:cNvSpPr/>
            <p:nvPr/>
          </p:nvSpPr>
          <p:spPr>
            <a:xfrm>
              <a:off x="2627280" y="2492280"/>
              <a:ext cx="1944000" cy="1224000"/>
            </a:xfrm>
            <a:prstGeom prst="roundRect">
              <a:avLst>
                <a:gd name="adj" fmla="val 16667"/>
              </a:avLst>
            </a:prstGeom>
            <a:solidFill>
              <a:srgbClr val="92d050"/>
            </a:solidFill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Text Box 26"/>
            <p:cNvSpPr/>
            <p:nvPr/>
          </p:nvSpPr>
          <p:spPr>
            <a:xfrm>
              <a:off x="2699280" y="2924640"/>
              <a:ext cx="194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Arial"/>
                </a:rPr>
                <a:t>RESPIRACIÓ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6" name="42 Grupo"/>
          <p:cNvGrpSpPr/>
          <p:nvPr/>
        </p:nvGrpSpPr>
        <p:grpSpPr>
          <a:xfrm>
            <a:off x="4716360" y="2492280"/>
            <a:ext cx="2087640" cy="1224000"/>
            <a:chOff x="4716360" y="2492280"/>
            <a:chExt cx="2087640" cy="1224000"/>
          </a:xfrm>
        </p:grpSpPr>
        <p:sp>
          <p:nvSpPr>
            <p:cNvPr id="87" name="AutoShape 20">
              <a:hlinkClick r:id="rId3" action="ppaction://hlinksldjump"/>
            </p:cNvPr>
            <p:cNvSpPr/>
            <p:nvPr/>
          </p:nvSpPr>
          <p:spPr>
            <a:xfrm>
              <a:off x="4721040" y="2492280"/>
              <a:ext cx="1932840" cy="1224000"/>
            </a:xfrm>
            <a:prstGeom prst="roundRect">
              <a:avLst>
                <a:gd name="adj" fmla="val 16667"/>
              </a:avLst>
            </a:prstGeom>
            <a:solidFill>
              <a:srgbClr val="92d050"/>
            </a:solidFill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Text Box 27">
              <a:hlinkClick r:id="rId4" action="ppaction://hlinksldjump"/>
            </p:cNvPr>
            <p:cNvSpPr/>
            <p:nvPr/>
          </p:nvSpPr>
          <p:spPr>
            <a:xfrm>
              <a:off x="4716360" y="2780280"/>
              <a:ext cx="2087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Arial"/>
                </a:rPr>
                <a:t>DISTRIBUCIÓN </a:t>
              </a:r>
              <a:br>
                <a:rPr sz="1600"/>
              </a:br>
              <a:r>
                <a:rPr b="0" lang="es-ES" sz="1600" spc="-1" strike="noStrike">
                  <a:solidFill>
                    <a:srgbClr val="ffffff"/>
                  </a:solidFill>
                  <a:latin typeface="Arial"/>
                </a:rPr>
                <a:t>DE SUSTANCIA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9" name="43 Grupo"/>
          <p:cNvGrpSpPr/>
          <p:nvPr/>
        </p:nvGrpSpPr>
        <p:grpSpPr>
          <a:xfrm>
            <a:off x="6804000" y="2492280"/>
            <a:ext cx="1944720" cy="1224000"/>
            <a:chOff x="6804000" y="2492280"/>
            <a:chExt cx="1944720" cy="1224000"/>
          </a:xfrm>
        </p:grpSpPr>
        <p:sp>
          <p:nvSpPr>
            <p:cNvPr id="90" name="AutoShape 19">
              <a:hlinkClick r:id="rId5" action="ppaction://hlinksldjump"/>
            </p:cNvPr>
            <p:cNvSpPr/>
            <p:nvPr/>
          </p:nvSpPr>
          <p:spPr>
            <a:xfrm>
              <a:off x="6804000" y="2492280"/>
              <a:ext cx="1944720" cy="1224000"/>
            </a:xfrm>
            <a:prstGeom prst="roundRect">
              <a:avLst>
                <a:gd name="adj" fmla="val 16667"/>
              </a:avLst>
            </a:prstGeom>
            <a:solidFill>
              <a:srgbClr val="92d050"/>
            </a:solidFill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Text Box 28">
              <a:hlinkClick r:id="rId6" action="ppaction://hlinksldjump"/>
            </p:cNvPr>
            <p:cNvSpPr/>
            <p:nvPr/>
          </p:nvSpPr>
          <p:spPr>
            <a:xfrm>
              <a:off x="6804000" y="2924640"/>
              <a:ext cx="1944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Arial"/>
                </a:rPr>
                <a:t>EXCRECIÓ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2" name="44 Grupo"/>
          <p:cNvGrpSpPr/>
          <p:nvPr/>
        </p:nvGrpSpPr>
        <p:grpSpPr>
          <a:xfrm>
            <a:off x="324000" y="4221000"/>
            <a:ext cx="1944360" cy="1224000"/>
            <a:chOff x="324000" y="4221000"/>
            <a:chExt cx="1944360" cy="1224000"/>
          </a:xfrm>
        </p:grpSpPr>
        <p:sp>
          <p:nvSpPr>
            <p:cNvPr id="93" name="AutoShape 23">
              <a:hlinkClick r:id="rId7" action="ppaction://hlinksldjump"/>
            </p:cNvPr>
            <p:cNvSpPr/>
            <p:nvPr/>
          </p:nvSpPr>
          <p:spPr>
            <a:xfrm>
              <a:off x="324000" y="4221000"/>
              <a:ext cx="1944360" cy="1224000"/>
            </a:xfrm>
            <a:prstGeom prst="roundRect">
              <a:avLst>
                <a:gd name="adj" fmla="val 16667"/>
              </a:avLst>
            </a:prstGeom>
            <a:solidFill>
              <a:srgbClr val="92d050"/>
            </a:solidFill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Text Box 29">
              <a:hlinkClick r:id="rId8" action="ppaction://hlinksldjump"/>
            </p:cNvPr>
            <p:cNvSpPr/>
            <p:nvPr/>
          </p:nvSpPr>
          <p:spPr>
            <a:xfrm>
              <a:off x="324000" y="4509000"/>
              <a:ext cx="19443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Arial"/>
                </a:rPr>
                <a:t>NUTRICIÓN AUTÓTROF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5" name="45 Grupo"/>
          <p:cNvGrpSpPr/>
          <p:nvPr/>
        </p:nvGrpSpPr>
        <p:grpSpPr>
          <a:xfrm>
            <a:off x="2340000" y="4221000"/>
            <a:ext cx="2087640" cy="1224000"/>
            <a:chOff x="2340000" y="4221000"/>
            <a:chExt cx="2087640" cy="1224000"/>
          </a:xfrm>
        </p:grpSpPr>
        <p:sp>
          <p:nvSpPr>
            <p:cNvPr id="96" name="AutoShape 22">
              <a:hlinkClick r:id="rId9" action="ppaction://hlinksldjump"/>
            </p:cNvPr>
            <p:cNvSpPr/>
            <p:nvPr/>
          </p:nvSpPr>
          <p:spPr>
            <a:xfrm>
              <a:off x="2416680" y="4221000"/>
              <a:ext cx="1934280" cy="1224000"/>
            </a:xfrm>
            <a:prstGeom prst="roundRect">
              <a:avLst>
                <a:gd name="adj" fmla="val 16667"/>
              </a:avLst>
            </a:prstGeom>
            <a:solidFill>
              <a:srgbClr val="92d050"/>
            </a:solidFill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Text Box 30">
              <a:hlinkClick r:id="rId10" action="ppaction://hlinksldjump"/>
            </p:cNvPr>
            <p:cNvSpPr/>
            <p:nvPr/>
          </p:nvSpPr>
          <p:spPr>
            <a:xfrm>
              <a:off x="2340000" y="4509000"/>
              <a:ext cx="2087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Arial"/>
                </a:rPr>
                <a:t>NUTRICIÓN HETERÓTROF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8" name="Text Box 31"/>
          <p:cNvSpPr/>
          <p:nvPr/>
        </p:nvSpPr>
        <p:spPr>
          <a:xfrm>
            <a:off x="5724360" y="5445000"/>
            <a:ext cx="295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c00000"/>
                </a:solidFill>
                <a:latin typeface="Arial"/>
              </a:rPr>
              <a:t>Pulsa sobre los recuadros para saber má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1" descr=""/>
          <p:cNvPicPr/>
          <p:nvPr/>
        </p:nvPicPr>
        <p:blipFill>
          <a:blip r:embed="rId1"/>
          <a:stretch/>
        </p:blipFill>
        <p:spPr>
          <a:xfrm>
            <a:off x="1258920" y="3645000"/>
            <a:ext cx="2376360" cy="2716200"/>
          </a:xfrm>
          <a:prstGeom prst="rect">
            <a:avLst/>
          </a:prstGeom>
          <a:ln w="0">
            <a:noFill/>
          </a:ln>
        </p:spPr>
      </p:pic>
      <p:grpSp>
        <p:nvGrpSpPr>
          <p:cNvPr id="100" name="Group 15"/>
          <p:cNvGrpSpPr/>
          <p:nvPr/>
        </p:nvGrpSpPr>
        <p:grpSpPr>
          <a:xfrm>
            <a:off x="-360" y="0"/>
            <a:ext cx="9144360" cy="6858000"/>
            <a:chOff x="-360" y="0"/>
            <a:chExt cx="9144360" cy="6858000"/>
          </a:xfrm>
        </p:grpSpPr>
        <p:sp>
          <p:nvSpPr>
            <p:cNvPr id="101" name="AutoShape 16"/>
            <p:cNvSpPr/>
            <p:nvPr/>
          </p:nvSpPr>
          <p:spPr>
            <a:xfrm rot="5400000">
              <a:off x="-571680" y="571320"/>
              <a:ext cx="2208240" cy="1065240"/>
            </a:xfrm>
            <a:prstGeom prst="rtTriangl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Text Box 17"/>
            <p:cNvSpPr/>
            <p:nvPr/>
          </p:nvSpPr>
          <p:spPr>
            <a:xfrm>
              <a:off x="0" y="0"/>
              <a:ext cx="91296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UNIDAD</a:t>
              </a:r>
              <a:br>
                <a:rPr sz="1200"/>
              </a:br>
              <a:r>
                <a:rPr b="1" lang="es-ES" sz="4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4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Text Box 18"/>
            <p:cNvSpPr/>
            <p:nvPr/>
          </p:nvSpPr>
          <p:spPr>
            <a:xfrm>
              <a:off x="984240" y="90360"/>
              <a:ext cx="686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2800" spc="-1" strike="noStrike">
                  <a:solidFill>
                    <a:srgbClr val="333399"/>
                  </a:solidFill>
                  <a:latin typeface="Arial"/>
                </a:rPr>
                <a:t>Los procesos de la nutrición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Text Box 19"/>
            <p:cNvSpPr/>
            <p:nvPr/>
          </p:nvSpPr>
          <p:spPr>
            <a:xfrm>
              <a:off x="76320" y="6400800"/>
              <a:ext cx="655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1600" spc="-1" strike="noStrike">
                  <a:solidFill>
                    <a:srgbClr val="ff790b"/>
                  </a:solidFill>
                  <a:latin typeface="Arial"/>
                </a:rPr>
                <a:t>Ciencias de la Naturaleza 2.º ES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05" name="Picture 20" descr=""/>
            <p:cNvPicPr/>
            <p:nvPr/>
          </p:nvPicPr>
          <p:blipFill>
            <a:blip r:embed="rId2"/>
            <a:stretch/>
          </p:blipFill>
          <p:spPr>
            <a:xfrm>
              <a:off x="7432560" y="6280200"/>
              <a:ext cx="1711440" cy="577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6" name="Text Box 21"/>
          <p:cNvSpPr/>
          <p:nvPr/>
        </p:nvSpPr>
        <p:spPr>
          <a:xfrm>
            <a:off x="971640" y="907920"/>
            <a:ext cx="705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8700"/>
                </a:solidFill>
                <a:latin typeface="Arial"/>
              </a:rPr>
              <a:t>Obtención de nutrien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Text Box 22"/>
          <p:cNvSpPr/>
          <p:nvPr/>
        </p:nvSpPr>
        <p:spPr>
          <a:xfrm>
            <a:off x="971640" y="1413000"/>
            <a:ext cx="7705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87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87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os nutrientes son las sustancias (orgánicas e inorgánicas) que toman los seres vivos y son útiles para sus célula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87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87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xisten dos tipos de nutrición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8" name="44 Grupo"/>
          <p:cNvGrpSpPr/>
          <p:nvPr/>
        </p:nvGrpSpPr>
        <p:grpSpPr>
          <a:xfrm>
            <a:off x="1311120" y="3986280"/>
            <a:ext cx="1028880" cy="322200"/>
            <a:chOff x="1311120" y="3986280"/>
            <a:chExt cx="1028880" cy="322200"/>
          </a:xfrm>
        </p:grpSpPr>
        <p:grpSp>
          <p:nvGrpSpPr>
            <p:cNvPr id="109" name="Group 12"/>
            <p:cNvGrpSpPr/>
            <p:nvPr/>
          </p:nvGrpSpPr>
          <p:grpSpPr>
            <a:xfrm>
              <a:off x="1311120" y="3986280"/>
              <a:ext cx="900360" cy="322200"/>
              <a:chOff x="1311120" y="3986280"/>
              <a:chExt cx="900360" cy="322200"/>
            </a:xfrm>
          </p:grpSpPr>
          <p:pic>
            <p:nvPicPr>
              <p:cNvPr id="110" name="Picture 13" descr=""/>
              <p:cNvPicPr/>
              <p:nvPr/>
            </p:nvPicPr>
            <p:blipFill>
              <a:blip r:embed="rId3"/>
              <a:stretch/>
            </p:blipFill>
            <p:spPr>
              <a:xfrm>
                <a:off x="1311120" y="3986280"/>
                <a:ext cx="900360" cy="322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" name="Text Box 14"/>
              <p:cNvSpPr/>
              <p:nvPr/>
            </p:nvSpPr>
            <p:spPr>
              <a:xfrm>
                <a:off x="1459080" y="4046400"/>
                <a:ext cx="607680" cy="203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2" name="Text Box 23"/>
            <p:cNvSpPr/>
            <p:nvPr/>
          </p:nvSpPr>
          <p:spPr>
            <a:xfrm>
              <a:off x="1402920" y="4005000"/>
              <a:ext cx="937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1200" spc="-1" strike="noStrike">
                  <a:solidFill>
                    <a:srgbClr val="002060"/>
                  </a:solidFill>
                  <a:latin typeface="Arial"/>
                </a:rPr>
                <a:t>Energía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3" name="43 Grupo"/>
          <p:cNvGrpSpPr/>
          <p:nvPr/>
        </p:nvGrpSpPr>
        <p:grpSpPr>
          <a:xfrm>
            <a:off x="2610000" y="3554280"/>
            <a:ext cx="1098360" cy="687600"/>
            <a:chOff x="2610000" y="3554280"/>
            <a:chExt cx="1098360" cy="687600"/>
          </a:xfrm>
        </p:grpSpPr>
        <p:grpSp>
          <p:nvGrpSpPr>
            <p:cNvPr id="114" name="Group 9"/>
            <p:cNvGrpSpPr/>
            <p:nvPr/>
          </p:nvGrpSpPr>
          <p:grpSpPr>
            <a:xfrm>
              <a:off x="2610000" y="3554280"/>
              <a:ext cx="1046160" cy="687600"/>
              <a:chOff x="2610000" y="3554280"/>
              <a:chExt cx="1046160" cy="687600"/>
            </a:xfrm>
          </p:grpSpPr>
          <p:pic>
            <p:nvPicPr>
              <p:cNvPr id="115" name="Picture 10" descr=""/>
              <p:cNvPicPr/>
              <p:nvPr/>
            </p:nvPicPr>
            <p:blipFill>
              <a:blip r:embed="rId4"/>
              <a:stretch/>
            </p:blipFill>
            <p:spPr>
              <a:xfrm>
                <a:off x="2610000" y="3554280"/>
                <a:ext cx="1046160" cy="68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6" name="Text Box 11"/>
              <p:cNvSpPr/>
              <p:nvPr/>
            </p:nvSpPr>
            <p:spPr>
              <a:xfrm>
                <a:off x="2774880" y="3668760"/>
                <a:ext cx="711360" cy="45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7" name="Text Box 24"/>
            <p:cNvSpPr/>
            <p:nvPr/>
          </p:nvSpPr>
          <p:spPr>
            <a:xfrm>
              <a:off x="2627280" y="3644640"/>
              <a:ext cx="1081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Sustancias inorgánica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8" name="45 Grupo"/>
          <p:cNvGrpSpPr/>
          <p:nvPr/>
        </p:nvGrpSpPr>
        <p:grpSpPr>
          <a:xfrm>
            <a:off x="1676520" y="5284800"/>
            <a:ext cx="1239840" cy="614520"/>
            <a:chOff x="1676520" y="5284800"/>
            <a:chExt cx="1239840" cy="614520"/>
          </a:xfrm>
        </p:grpSpPr>
        <p:grpSp>
          <p:nvGrpSpPr>
            <p:cNvPr id="119" name="Group 6"/>
            <p:cNvGrpSpPr/>
            <p:nvPr/>
          </p:nvGrpSpPr>
          <p:grpSpPr>
            <a:xfrm>
              <a:off x="1676520" y="5284800"/>
              <a:ext cx="1046160" cy="614520"/>
              <a:chOff x="1676520" y="5284800"/>
              <a:chExt cx="1046160" cy="614520"/>
            </a:xfrm>
          </p:grpSpPr>
          <p:pic>
            <p:nvPicPr>
              <p:cNvPr id="120" name="Picture 7" descr=""/>
              <p:cNvPicPr/>
              <p:nvPr/>
            </p:nvPicPr>
            <p:blipFill>
              <a:blip r:embed="rId5"/>
              <a:stretch/>
            </p:blipFill>
            <p:spPr>
              <a:xfrm>
                <a:off x="1676520" y="5284800"/>
                <a:ext cx="1046160" cy="614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1" name="Text Box 8"/>
              <p:cNvSpPr/>
              <p:nvPr/>
            </p:nvSpPr>
            <p:spPr>
              <a:xfrm>
                <a:off x="1839960" y="5384880"/>
                <a:ext cx="711000" cy="40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2" name="Text Box 25"/>
            <p:cNvSpPr/>
            <p:nvPr/>
          </p:nvSpPr>
          <p:spPr>
            <a:xfrm>
              <a:off x="1763640" y="5343480"/>
              <a:ext cx="1152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Nutrientes orgánico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23" name="Picture 2" descr=""/>
          <p:cNvPicPr/>
          <p:nvPr/>
        </p:nvPicPr>
        <p:blipFill>
          <a:blip r:embed="rId6"/>
          <a:stretch/>
        </p:blipFill>
        <p:spPr>
          <a:xfrm>
            <a:off x="5724360" y="3357720"/>
            <a:ext cx="2392560" cy="2735280"/>
          </a:xfrm>
          <a:prstGeom prst="rect">
            <a:avLst/>
          </a:prstGeom>
          <a:ln w="0">
            <a:noFill/>
          </a:ln>
        </p:spPr>
      </p:pic>
      <p:grpSp>
        <p:nvGrpSpPr>
          <p:cNvPr id="124" name="40 Grupo"/>
          <p:cNvGrpSpPr/>
          <p:nvPr/>
        </p:nvGrpSpPr>
        <p:grpSpPr>
          <a:xfrm>
            <a:off x="7236000" y="5229360"/>
            <a:ext cx="1241280" cy="614160"/>
            <a:chOff x="7236000" y="5229360"/>
            <a:chExt cx="1241280" cy="614160"/>
          </a:xfrm>
        </p:grpSpPr>
        <p:grpSp>
          <p:nvGrpSpPr>
            <p:cNvPr id="125" name="Group 26"/>
            <p:cNvGrpSpPr/>
            <p:nvPr/>
          </p:nvGrpSpPr>
          <p:grpSpPr>
            <a:xfrm>
              <a:off x="7236000" y="5229360"/>
              <a:ext cx="1047600" cy="614160"/>
              <a:chOff x="7236000" y="5229360"/>
              <a:chExt cx="1047600" cy="614160"/>
            </a:xfrm>
          </p:grpSpPr>
          <p:pic>
            <p:nvPicPr>
              <p:cNvPr id="126" name="Picture 27" descr=""/>
              <p:cNvPicPr/>
              <p:nvPr/>
            </p:nvPicPr>
            <p:blipFill>
              <a:blip r:embed="rId7"/>
              <a:stretch/>
            </p:blipFill>
            <p:spPr>
              <a:xfrm>
                <a:off x="7236000" y="5229360"/>
                <a:ext cx="1047600" cy="61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7" name="Text Box 28"/>
              <p:cNvSpPr/>
              <p:nvPr/>
            </p:nvSpPr>
            <p:spPr>
              <a:xfrm>
                <a:off x="7400880" y="5330520"/>
                <a:ext cx="711360" cy="40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8" name="Text Box 29"/>
            <p:cNvSpPr/>
            <p:nvPr/>
          </p:nvSpPr>
          <p:spPr>
            <a:xfrm>
              <a:off x="7324560" y="5289480"/>
              <a:ext cx="1152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Nutrientes orgánico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9" name="38 Grupo"/>
          <p:cNvGrpSpPr/>
          <p:nvPr/>
        </p:nvGrpSpPr>
        <p:grpSpPr>
          <a:xfrm>
            <a:off x="5435640" y="4005360"/>
            <a:ext cx="1041480" cy="320400"/>
            <a:chOff x="5435640" y="4005360"/>
            <a:chExt cx="1041480" cy="320400"/>
          </a:xfrm>
        </p:grpSpPr>
        <p:grpSp>
          <p:nvGrpSpPr>
            <p:cNvPr id="130" name="Group 3"/>
            <p:cNvGrpSpPr/>
            <p:nvPr/>
          </p:nvGrpSpPr>
          <p:grpSpPr>
            <a:xfrm>
              <a:off x="5435640" y="4005360"/>
              <a:ext cx="1041480" cy="320400"/>
              <a:chOff x="5435640" y="4005360"/>
              <a:chExt cx="1041480" cy="320400"/>
            </a:xfrm>
          </p:grpSpPr>
          <p:pic>
            <p:nvPicPr>
              <p:cNvPr id="131" name="Picture 4" descr=""/>
              <p:cNvPicPr/>
              <p:nvPr/>
            </p:nvPicPr>
            <p:blipFill>
              <a:blip r:embed="rId8"/>
              <a:stretch/>
            </p:blipFill>
            <p:spPr>
              <a:xfrm>
                <a:off x="5435640" y="4005360"/>
                <a:ext cx="1041480" cy="320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2" name="Text Box 5"/>
              <p:cNvSpPr/>
              <p:nvPr/>
            </p:nvSpPr>
            <p:spPr>
              <a:xfrm>
                <a:off x="5599080" y="4066920"/>
                <a:ext cx="711000" cy="20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3" name="Text Box 30"/>
            <p:cNvSpPr/>
            <p:nvPr/>
          </p:nvSpPr>
          <p:spPr>
            <a:xfrm>
              <a:off x="5523480" y="4024800"/>
              <a:ext cx="93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Alimento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4" name="Text Box 31"/>
          <p:cNvSpPr/>
          <p:nvPr/>
        </p:nvSpPr>
        <p:spPr>
          <a:xfrm>
            <a:off x="3851280" y="5950080"/>
            <a:ext cx="2916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c00000"/>
                </a:solidFill>
                <a:latin typeface="Arial"/>
              </a:rPr>
              <a:t>Pulsa sobre las imágenes para saber má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46 CuadroTexto"/>
          <p:cNvSpPr/>
          <p:nvPr/>
        </p:nvSpPr>
        <p:spPr>
          <a:xfrm>
            <a:off x="5364000" y="3068640"/>
            <a:ext cx="28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87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8700"/>
                </a:solidFill>
                <a:latin typeface="Arial"/>
                <a:ea typeface="Geneva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Geneva"/>
              </a:rPr>
              <a:t>Heterótrof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47 CuadroTexto"/>
          <p:cNvSpPr/>
          <p:nvPr/>
        </p:nvSpPr>
        <p:spPr>
          <a:xfrm>
            <a:off x="1187280" y="3068640"/>
            <a:ext cx="28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87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8700"/>
                </a:solidFill>
                <a:latin typeface="Arial"/>
                <a:ea typeface="Geneva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Geneva"/>
              </a:rPr>
              <a:t>Autótrof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Group 1"/>
          <p:cNvGrpSpPr/>
          <p:nvPr/>
        </p:nvGrpSpPr>
        <p:grpSpPr>
          <a:xfrm>
            <a:off x="-360" y="0"/>
            <a:ext cx="9144360" cy="6858000"/>
            <a:chOff x="-360" y="0"/>
            <a:chExt cx="9144360" cy="6858000"/>
          </a:xfrm>
        </p:grpSpPr>
        <p:sp>
          <p:nvSpPr>
            <p:cNvPr id="138" name="AutoShape 2"/>
            <p:cNvSpPr/>
            <p:nvPr/>
          </p:nvSpPr>
          <p:spPr>
            <a:xfrm rot="5400000">
              <a:off x="-571680" y="571320"/>
              <a:ext cx="2208240" cy="1065240"/>
            </a:xfrm>
            <a:prstGeom prst="rtTriangl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Text Box 3"/>
            <p:cNvSpPr/>
            <p:nvPr/>
          </p:nvSpPr>
          <p:spPr>
            <a:xfrm>
              <a:off x="0" y="0"/>
              <a:ext cx="91296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UNIDAD</a:t>
              </a:r>
              <a:br>
                <a:rPr sz="1200"/>
              </a:br>
              <a:r>
                <a:rPr b="1" lang="es-ES" sz="4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4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Text Box 4"/>
            <p:cNvSpPr/>
            <p:nvPr/>
          </p:nvSpPr>
          <p:spPr>
            <a:xfrm>
              <a:off x="984240" y="90360"/>
              <a:ext cx="686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2800" spc="-1" strike="noStrike">
                  <a:solidFill>
                    <a:srgbClr val="333399"/>
                  </a:solidFill>
                  <a:latin typeface="Arial"/>
                </a:rPr>
                <a:t>Los procesos de la nutrición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Text Box 5"/>
            <p:cNvSpPr/>
            <p:nvPr/>
          </p:nvSpPr>
          <p:spPr>
            <a:xfrm>
              <a:off x="76320" y="6400800"/>
              <a:ext cx="655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1600" spc="-1" strike="noStrike">
                  <a:solidFill>
                    <a:srgbClr val="ff790b"/>
                  </a:solidFill>
                  <a:latin typeface="Arial"/>
                </a:rPr>
                <a:t>Ciencias de la Naturaleza 2.º ES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42" name="Picture 6" descr=""/>
            <p:cNvPicPr/>
            <p:nvPr/>
          </p:nvPicPr>
          <p:blipFill>
            <a:blip r:embed="rId1"/>
            <a:stretch/>
          </p:blipFill>
          <p:spPr>
            <a:xfrm>
              <a:off x="7432560" y="6280200"/>
              <a:ext cx="1711440" cy="577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3" name="Text Box 7"/>
          <p:cNvSpPr/>
          <p:nvPr/>
        </p:nvSpPr>
        <p:spPr>
          <a:xfrm>
            <a:off x="971640" y="1052640"/>
            <a:ext cx="705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8700"/>
                </a:solidFill>
                <a:latin typeface="Arial"/>
              </a:rPr>
              <a:t>Nutrición autótrof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Text Box 8"/>
          <p:cNvSpPr/>
          <p:nvPr/>
        </p:nvSpPr>
        <p:spPr>
          <a:xfrm>
            <a:off x="971640" y="1563840"/>
            <a:ext cx="7129440" cy="38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s propia de organismos capaces de crear nutrientes orgánicos a partir de sustancias inorgánicas, tales como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Geneva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Geneva"/>
              </a:rPr>
              <a:t>Agu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Geneva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Geneva"/>
              </a:rPr>
              <a:t>Sales minera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Geneva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Geneva"/>
              </a:rPr>
              <a:t>Dióxido de carbon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" name="Group 1"/>
          <p:cNvGrpSpPr/>
          <p:nvPr/>
        </p:nvGrpSpPr>
        <p:grpSpPr>
          <a:xfrm>
            <a:off x="-360" y="0"/>
            <a:ext cx="9144360" cy="6858000"/>
            <a:chOff x="-360" y="0"/>
            <a:chExt cx="9144360" cy="6858000"/>
          </a:xfrm>
        </p:grpSpPr>
        <p:sp>
          <p:nvSpPr>
            <p:cNvPr id="146" name="AutoShape 2"/>
            <p:cNvSpPr/>
            <p:nvPr/>
          </p:nvSpPr>
          <p:spPr>
            <a:xfrm rot="5400000">
              <a:off x="-571680" y="571320"/>
              <a:ext cx="2208240" cy="1065240"/>
            </a:xfrm>
            <a:prstGeom prst="rtTriangl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Text Box 3"/>
            <p:cNvSpPr/>
            <p:nvPr/>
          </p:nvSpPr>
          <p:spPr>
            <a:xfrm>
              <a:off x="0" y="0"/>
              <a:ext cx="91296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UNIDAD</a:t>
              </a:r>
              <a:br>
                <a:rPr sz="1200"/>
              </a:br>
              <a:r>
                <a:rPr b="1" lang="es-ES" sz="4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4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Text Box 4"/>
            <p:cNvSpPr/>
            <p:nvPr/>
          </p:nvSpPr>
          <p:spPr>
            <a:xfrm>
              <a:off x="984240" y="90360"/>
              <a:ext cx="686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2800" spc="-1" strike="noStrike">
                  <a:solidFill>
                    <a:srgbClr val="333399"/>
                  </a:solidFill>
                  <a:latin typeface="Arial"/>
                </a:rPr>
                <a:t>Los procesos de la nutrición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Text Box 5"/>
            <p:cNvSpPr/>
            <p:nvPr/>
          </p:nvSpPr>
          <p:spPr>
            <a:xfrm>
              <a:off x="76320" y="6400800"/>
              <a:ext cx="655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1600" spc="-1" strike="noStrike">
                  <a:solidFill>
                    <a:srgbClr val="ff790b"/>
                  </a:solidFill>
                  <a:latin typeface="Arial"/>
                </a:rPr>
                <a:t>Ciencias de la Naturaleza 2.º ES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50" name="Picture 6" descr=""/>
            <p:cNvPicPr/>
            <p:nvPr/>
          </p:nvPicPr>
          <p:blipFill>
            <a:blip r:embed="rId1"/>
            <a:stretch/>
          </p:blipFill>
          <p:spPr>
            <a:xfrm>
              <a:off x="7432560" y="6280200"/>
              <a:ext cx="1711440" cy="577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1" name="Text Box 7"/>
          <p:cNvSpPr/>
          <p:nvPr/>
        </p:nvSpPr>
        <p:spPr>
          <a:xfrm>
            <a:off x="971640" y="907920"/>
            <a:ext cx="705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8700"/>
                </a:solidFill>
                <a:latin typeface="Arial"/>
              </a:rPr>
              <a:t>Nutrición autótrof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Text Box 8"/>
          <p:cNvSpPr/>
          <p:nvPr/>
        </p:nvSpPr>
        <p:spPr>
          <a:xfrm>
            <a:off x="971640" y="1563840"/>
            <a:ext cx="705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Un ejemplo, es la fotosíntesis. Las plantas y </a:t>
            </a: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s algas fabrican nutrientes orgánicos gracias a </a:t>
            </a: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 energía del so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AutoShape 9"/>
          <p:cNvSpPr/>
          <p:nvPr/>
        </p:nvSpPr>
        <p:spPr>
          <a:xfrm>
            <a:off x="4067280" y="6237360"/>
            <a:ext cx="431640" cy="4316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92d050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Text Box 10"/>
          <p:cNvSpPr/>
          <p:nvPr/>
        </p:nvSpPr>
        <p:spPr>
          <a:xfrm>
            <a:off x="4500720" y="6308640"/>
            <a:ext cx="201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33cc"/>
                </a:solidFill>
                <a:latin typeface="Times New Roman"/>
              </a:rPr>
              <a:t>Volver al menú inicia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5" name="Picture 11" descr=""/>
          <p:cNvPicPr/>
          <p:nvPr/>
        </p:nvPicPr>
        <p:blipFill>
          <a:blip r:embed="rId2"/>
          <a:stretch/>
        </p:blipFill>
        <p:spPr>
          <a:xfrm>
            <a:off x="1042920" y="3141720"/>
            <a:ext cx="3097440" cy="301608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2" descr=""/>
          <p:cNvPicPr/>
          <p:nvPr/>
        </p:nvPicPr>
        <p:blipFill>
          <a:blip r:embed="rId3"/>
          <a:stretch/>
        </p:blipFill>
        <p:spPr>
          <a:xfrm>
            <a:off x="6156360" y="3068640"/>
            <a:ext cx="2081160" cy="32814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3" descr=""/>
          <p:cNvPicPr/>
          <p:nvPr/>
        </p:nvPicPr>
        <p:blipFill>
          <a:blip r:embed="rId4"/>
          <a:stretch/>
        </p:blipFill>
        <p:spPr>
          <a:xfrm>
            <a:off x="4284720" y="2997360"/>
            <a:ext cx="1469880" cy="1368360"/>
          </a:xfrm>
          <a:prstGeom prst="rect">
            <a:avLst/>
          </a:prstGeom>
          <a:ln w="0">
            <a:noFill/>
          </a:ln>
        </p:spPr>
      </p:pic>
      <p:grpSp>
        <p:nvGrpSpPr>
          <p:cNvPr id="158" name="Group 14"/>
          <p:cNvGrpSpPr/>
          <p:nvPr/>
        </p:nvGrpSpPr>
        <p:grpSpPr>
          <a:xfrm>
            <a:off x="3924360" y="4437000"/>
            <a:ext cx="2301840" cy="935280"/>
            <a:chOff x="3924360" y="4437000"/>
            <a:chExt cx="2301840" cy="935280"/>
          </a:xfrm>
        </p:grpSpPr>
        <p:sp>
          <p:nvSpPr>
            <p:cNvPr id="159" name="AutoShape 15"/>
            <p:cNvSpPr/>
            <p:nvPr/>
          </p:nvSpPr>
          <p:spPr>
            <a:xfrm>
              <a:off x="5003640" y="4437000"/>
              <a:ext cx="214560" cy="647640"/>
            </a:xfrm>
            <a:prstGeom prst="flowChartProcess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AutoShape 16"/>
            <p:cNvSpPr/>
            <p:nvPr/>
          </p:nvSpPr>
          <p:spPr>
            <a:xfrm>
              <a:off x="3924360" y="4941720"/>
              <a:ext cx="2301840" cy="430560"/>
            </a:xfrm>
            <a:prstGeom prst="leftRightArrow">
              <a:avLst>
                <a:gd name="adj1" fmla="val 50000"/>
                <a:gd name="adj2" fmla="val 50120"/>
              </a:avLst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1" name="Text Box 17"/>
          <p:cNvSpPr/>
          <p:nvPr/>
        </p:nvSpPr>
        <p:spPr>
          <a:xfrm>
            <a:off x="4643280" y="5013360"/>
            <a:ext cx="180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ENERGÍ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2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Group 1"/>
          <p:cNvGrpSpPr/>
          <p:nvPr/>
        </p:nvGrpSpPr>
        <p:grpSpPr>
          <a:xfrm>
            <a:off x="-360" y="0"/>
            <a:ext cx="9144360" cy="6858000"/>
            <a:chOff x="-360" y="0"/>
            <a:chExt cx="9144360" cy="6858000"/>
          </a:xfrm>
        </p:grpSpPr>
        <p:sp>
          <p:nvSpPr>
            <p:cNvPr id="163" name="AutoShape 2"/>
            <p:cNvSpPr/>
            <p:nvPr/>
          </p:nvSpPr>
          <p:spPr>
            <a:xfrm rot="5400000">
              <a:off x="-571680" y="571320"/>
              <a:ext cx="2208240" cy="1065240"/>
            </a:xfrm>
            <a:prstGeom prst="rtTriangl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Text Box 3"/>
            <p:cNvSpPr/>
            <p:nvPr/>
          </p:nvSpPr>
          <p:spPr>
            <a:xfrm>
              <a:off x="0" y="0"/>
              <a:ext cx="91296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UNIDAD</a:t>
              </a:r>
              <a:br>
                <a:rPr sz="1200"/>
              </a:br>
              <a:r>
                <a:rPr b="1" lang="es-ES" sz="4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4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Text Box 4"/>
            <p:cNvSpPr/>
            <p:nvPr/>
          </p:nvSpPr>
          <p:spPr>
            <a:xfrm>
              <a:off x="984240" y="90360"/>
              <a:ext cx="686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2800" spc="-1" strike="noStrike">
                  <a:solidFill>
                    <a:srgbClr val="333399"/>
                  </a:solidFill>
                  <a:latin typeface="Arial"/>
                </a:rPr>
                <a:t>Los procesos de la nutrición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Text Box 5"/>
            <p:cNvSpPr/>
            <p:nvPr/>
          </p:nvSpPr>
          <p:spPr>
            <a:xfrm>
              <a:off x="76320" y="6400800"/>
              <a:ext cx="655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1600" spc="-1" strike="noStrike">
                  <a:solidFill>
                    <a:srgbClr val="ff790b"/>
                  </a:solidFill>
                  <a:latin typeface="Arial"/>
                </a:rPr>
                <a:t>Ciencias de la Naturaleza 2.º ES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67" name="Picture 6" descr=""/>
            <p:cNvPicPr/>
            <p:nvPr/>
          </p:nvPicPr>
          <p:blipFill>
            <a:blip r:embed="rId1"/>
            <a:stretch/>
          </p:blipFill>
          <p:spPr>
            <a:xfrm>
              <a:off x="7432560" y="6280200"/>
              <a:ext cx="1711440" cy="577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8" name="Text Box 7"/>
          <p:cNvSpPr/>
          <p:nvPr/>
        </p:nvSpPr>
        <p:spPr>
          <a:xfrm>
            <a:off x="971640" y="1052640"/>
            <a:ext cx="705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8700"/>
                </a:solidFill>
                <a:latin typeface="Arial"/>
              </a:rPr>
              <a:t>Nutrición heterótrof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Text Box 8"/>
          <p:cNvSpPr/>
          <p:nvPr/>
        </p:nvSpPr>
        <p:spPr>
          <a:xfrm>
            <a:off x="971640" y="1563840"/>
            <a:ext cx="7200720" cy="23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os organismos con nutrición heterótrofa no pueden fabricar materia orgánica a partir de materia inorgánica. Por ello, la toman de otros seres vivos o sus resto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Un ejemplo de organismos heterótrofos son </a:t>
            </a: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os animal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AutoShape 9"/>
          <p:cNvSpPr/>
          <p:nvPr/>
        </p:nvSpPr>
        <p:spPr>
          <a:xfrm>
            <a:off x="4211640" y="6237360"/>
            <a:ext cx="431640" cy="4316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92d050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Text Box 10"/>
          <p:cNvSpPr/>
          <p:nvPr/>
        </p:nvSpPr>
        <p:spPr>
          <a:xfrm>
            <a:off x="4643280" y="6308640"/>
            <a:ext cx="20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33cc"/>
                </a:solidFill>
                <a:latin typeface="Times New Roman"/>
              </a:rPr>
              <a:t>Volver al menú inicia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2" name="Picture 11" descr=""/>
          <p:cNvPicPr/>
          <p:nvPr/>
        </p:nvPicPr>
        <p:blipFill>
          <a:blip r:embed="rId2"/>
          <a:stretch/>
        </p:blipFill>
        <p:spPr>
          <a:xfrm>
            <a:off x="2771640" y="3746520"/>
            <a:ext cx="3095640" cy="2419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1" descr=""/>
          <p:cNvPicPr/>
          <p:nvPr/>
        </p:nvPicPr>
        <p:blipFill>
          <a:blip r:embed="rId1"/>
          <a:stretch/>
        </p:blipFill>
        <p:spPr>
          <a:xfrm>
            <a:off x="1547640" y="3213000"/>
            <a:ext cx="3816360" cy="3095640"/>
          </a:xfrm>
          <a:prstGeom prst="rect">
            <a:avLst/>
          </a:prstGeom>
          <a:ln w="0">
            <a:noFill/>
          </a:ln>
        </p:spPr>
      </p:pic>
      <p:grpSp>
        <p:nvGrpSpPr>
          <p:cNvPr id="174" name="Group 2"/>
          <p:cNvGrpSpPr/>
          <p:nvPr/>
        </p:nvGrpSpPr>
        <p:grpSpPr>
          <a:xfrm>
            <a:off x="-360" y="0"/>
            <a:ext cx="9144360" cy="6858000"/>
            <a:chOff x="-360" y="0"/>
            <a:chExt cx="9144360" cy="6858000"/>
          </a:xfrm>
        </p:grpSpPr>
        <p:sp>
          <p:nvSpPr>
            <p:cNvPr id="175" name="AutoShape 3"/>
            <p:cNvSpPr/>
            <p:nvPr/>
          </p:nvSpPr>
          <p:spPr>
            <a:xfrm rot="5400000">
              <a:off x="-571680" y="571320"/>
              <a:ext cx="2208240" cy="1065240"/>
            </a:xfrm>
            <a:prstGeom prst="rtTriangl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Text Box 4"/>
            <p:cNvSpPr/>
            <p:nvPr/>
          </p:nvSpPr>
          <p:spPr>
            <a:xfrm>
              <a:off x="0" y="0"/>
              <a:ext cx="91296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UNIDAD</a:t>
              </a:r>
              <a:br>
                <a:rPr sz="1200"/>
              </a:br>
              <a:r>
                <a:rPr b="1" lang="es-ES" sz="4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4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Text Box 5"/>
            <p:cNvSpPr/>
            <p:nvPr/>
          </p:nvSpPr>
          <p:spPr>
            <a:xfrm>
              <a:off x="984240" y="90360"/>
              <a:ext cx="686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2800" spc="-1" strike="noStrike">
                  <a:solidFill>
                    <a:srgbClr val="333399"/>
                  </a:solidFill>
                  <a:latin typeface="Arial"/>
                </a:rPr>
                <a:t>Los procesos de la nutrición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Text Box 6"/>
            <p:cNvSpPr/>
            <p:nvPr/>
          </p:nvSpPr>
          <p:spPr>
            <a:xfrm>
              <a:off x="76320" y="6400800"/>
              <a:ext cx="655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1600" spc="-1" strike="noStrike">
                  <a:solidFill>
                    <a:srgbClr val="ff790b"/>
                  </a:solidFill>
                  <a:latin typeface="Arial"/>
                </a:rPr>
                <a:t>Ciencias de la Naturaleza 2.º ES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79" name="Picture 7" descr=""/>
            <p:cNvPicPr/>
            <p:nvPr/>
          </p:nvPicPr>
          <p:blipFill>
            <a:blip r:embed="rId2"/>
            <a:stretch/>
          </p:blipFill>
          <p:spPr>
            <a:xfrm>
              <a:off x="7432560" y="6280200"/>
              <a:ext cx="1711440" cy="577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0" name="Text Box 8"/>
          <p:cNvSpPr/>
          <p:nvPr/>
        </p:nvSpPr>
        <p:spPr>
          <a:xfrm>
            <a:off x="971640" y="1052640"/>
            <a:ext cx="705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8700"/>
                </a:solidFill>
                <a:latin typeface="Arial"/>
              </a:rPr>
              <a:t>Respir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Text Box 9"/>
          <p:cNvSpPr/>
          <p:nvPr/>
        </p:nvSpPr>
        <p:spPr>
          <a:xfrm>
            <a:off x="684360" y="1557360"/>
            <a:ext cx="813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e entiende como respiración el proceso en el que un ser vivo toma oxígeno y expulsa dióxido de carbono.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Text Box 10"/>
          <p:cNvSpPr/>
          <p:nvPr/>
        </p:nvSpPr>
        <p:spPr>
          <a:xfrm>
            <a:off x="4211640" y="6021360"/>
            <a:ext cx="107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00b0f0"/>
                </a:solidFill>
                <a:latin typeface="Arial"/>
              </a:rPr>
              <a:t>Oxígen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Text Box 11"/>
          <p:cNvSpPr/>
          <p:nvPr/>
        </p:nvSpPr>
        <p:spPr>
          <a:xfrm>
            <a:off x="5148360" y="5229360"/>
            <a:ext cx="1079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c00000"/>
                </a:solidFill>
                <a:latin typeface="Arial"/>
              </a:rPr>
              <a:t>Dióxido de carbon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Text Box 9"/>
          <p:cNvSpPr/>
          <p:nvPr/>
        </p:nvSpPr>
        <p:spPr>
          <a:xfrm>
            <a:off x="611280" y="2492280"/>
            <a:ext cx="76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También es un proceso que se da en las células para utilizar los nutrientes con el oxígeno y obtener energía. Este proceso lo realizan las mitocondria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5" name="Group 1"/>
          <p:cNvGrpSpPr/>
          <p:nvPr/>
        </p:nvGrpSpPr>
        <p:grpSpPr>
          <a:xfrm>
            <a:off x="-360" y="0"/>
            <a:ext cx="9144360" cy="6858000"/>
            <a:chOff x="-360" y="0"/>
            <a:chExt cx="9144360" cy="6858000"/>
          </a:xfrm>
        </p:grpSpPr>
        <p:sp>
          <p:nvSpPr>
            <p:cNvPr id="186" name="AutoShape 2"/>
            <p:cNvSpPr/>
            <p:nvPr/>
          </p:nvSpPr>
          <p:spPr>
            <a:xfrm rot="5400000">
              <a:off x="-571680" y="571320"/>
              <a:ext cx="2208240" cy="1065240"/>
            </a:xfrm>
            <a:prstGeom prst="rtTriangl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Text Box 3"/>
            <p:cNvSpPr/>
            <p:nvPr/>
          </p:nvSpPr>
          <p:spPr>
            <a:xfrm>
              <a:off x="0" y="0"/>
              <a:ext cx="91296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UNIDAD</a:t>
              </a:r>
              <a:br>
                <a:rPr sz="1200"/>
              </a:br>
              <a:r>
                <a:rPr b="1" lang="es-ES" sz="4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4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Text Box 4"/>
            <p:cNvSpPr/>
            <p:nvPr/>
          </p:nvSpPr>
          <p:spPr>
            <a:xfrm>
              <a:off x="984240" y="90360"/>
              <a:ext cx="686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2800" spc="-1" strike="noStrike">
                  <a:solidFill>
                    <a:srgbClr val="333399"/>
                  </a:solidFill>
                  <a:latin typeface="Arial"/>
                </a:rPr>
                <a:t>Los procesos de la nutrición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Text Box 5"/>
            <p:cNvSpPr/>
            <p:nvPr/>
          </p:nvSpPr>
          <p:spPr>
            <a:xfrm>
              <a:off x="76320" y="6400800"/>
              <a:ext cx="655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1600" spc="-1" strike="noStrike">
                  <a:solidFill>
                    <a:srgbClr val="ff790b"/>
                  </a:solidFill>
                  <a:latin typeface="Arial"/>
                </a:rPr>
                <a:t>Ciencias de la Naturaleza 2.º ES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90" name="Picture 6" descr=""/>
            <p:cNvPicPr/>
            <p:nvPr/>
          </p:nvPicPr>
          <p:blipFill>
            <a:blip r:embed="rId1"/>
            <a:stretch/>
          </p:blipFill>
          <p:spPr>
            <a:xfrm>
              <a:off x="7432560" y="6280200"/>
              <a:ext cx="1711440" cy="577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1" name="Text Box 7"/>
          <p:cNvSpPr/>
          <p:nvPr/>
        </p:nvSpPr>
        <p:spPr>
          <a:xfrm>
            <a:off x="971640" y="1052640"/>
            <a:ext cx="705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8700"/>
                </a:solidFill>
                <a:latin typeface="Arial"/>
              </a:rPr>
              <a:t>Respir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Text Box 8"/>
          <p:cNvSpPr/>
          <p:nvPr/>
        </p:nvSpPr>
        <p:spPr>
          <a:xfrm>
            <a:off x="971640" y="1563840"/>
            <a:ext cx="720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n dicho proceso, la mitocondria toma oxígeno, obtiene energía de los nutrientes, y expulsa dióxido de carbon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3" name="Picture 9" descr=""/>
          <p:cNvPicPr/>
          <p:nvPr/>
        </p:nvPicPr>
        <p:blipFill>
          <a:blip r:embed="rId2"/>
          <a:stretch/>
        </p:blipFill>
        <p:spPr>
          <a:xfrm>
            <a:off x="2411280" y="3141720"/>
            <a:ext cx="4303800" cy="2719440"/>
          </a:xfrm>
          <a:prstGeom prst="rect">
            <a:avLst/>
          </a:prstGeom>
          <a:ln w="0">
            <a:noFill/>
          </a:ln>
        </p:spPr>
      </p:pic>
      <p:sp>
        <p:nvSpPr>
          <p:cNvPr id="194" name="Freeform 10"/>
          <p:cNvSpPr/>
          <p:nvPr/>
        </p:nvSpPr>
        <p:spPr>
          <a:xfrm>
            <a:off x="4572000" y="3573360"/>
            <a:ext cx="2232000" cy="719280"/>
          </a:xfrm>
          <a:custGeom>
            <a:avLst/>
            <a:gdLst>
              <a:gd name="textAreaLeft" fmla="*/ 0 w 2232000"/>
              <a:gd name="textAreaRight" fmla="*/ 2232360 w 2232000"/>
              <a:gd name="textAreaTop" fmla="*/ 0 h 719280"/>
              <a:gd name="textAreaBottom" fmla="*/ 719640 h 719280"/>
            </a:gdLst>
            <a:ahLst/>
            <a:rect l="textAreaLeft" t="textAreaTop" r="textAreaRight" b="textAreaBottom"/>
            <a:pathLst>
              <a:path w="2232025" h="719137">
                <a:moveTo>
                  <a:pt x="0" y="719137"/>
                </a:moveTo>
                <a:lnTo>
                  <a:pt x="0" y="404515"/>
                </a:lnTo>
                <a:cubicBezTo>
                  <a:pt x="0" y="230754"/>
                  <a:pt x="140861" y="89893"/>
                  <a:pt x="314622" y="89893"/>
                </a:cubicBezTo>
                <a:cubicBezTo>
                  <a:pt x="314622" y="89893"/>
                  <a:pt x="314622" y="89893"/>
                  <a:pt x="314622" y="89893"/>
                </a:cubicBezTo>
                <a:lnTo>
                  <a:pt x="2052241" y="89892"/>
                </a:lnTo>
                <a:lnTo>
                  <a:pt x="2052241" y="0"/>
                </a:lnTo>
                <a:lnTo>
                  <a:pt x="2232025" y="179784"/>
                </a:lnTo>
                <a:lnTo>
                  <a:pt x="2052241" y="359569"/>
                </a:lnTo>
                <a:lnTo>
                  <a:pt x="2052241" y="269676"/>
                </a:lnTo>
                <a:lnTo>
                  <a:pt x="314622" y="269676"/>
                </a:lnTo>
                <a:lnTo>
                  <a:pt x="314621" y="269676"/>
                </a:lnTo>
                <a:cubicBezTo>
                  <a:pt x="240153" y="269676"/>
                  <a:pt x="179784" y="330045"/>
                  <a:pt x="179784" y="404513"/>
                </a:cubicBezTo>
                <a:lnTo>
                  <a:pt x="179784" y="719137"/>
                </a:lnTo>
                <a:lnTo>
                  <a:pt x="0" y="719137"/>
                </a:lnTo>
                <a:close/>
              </a:path>
            </a:pathLst>
          </a:custGeom>
          <a:solidFill>
            <a:srgbClr val="ffc000">
              <a:alpha val="35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Freeform 11"/>
          <p:cNvSpPr/>
          <p:nvPr/>
        </p:nvSpPr>
        <p:spPr>
          <a:xfrm>
            <a:off x="1771560" y="4444920"/>
            <a:ext cx="2232000" cy="784440"/>
          </a:xfrm>
          <a:custGeom>
            <a:avLst/>
            <a:gdLst>
              <a:gd name="textAreaLeft" fmla="*/ 0 w 2232000"/>
              <a:gd name="textAreaRight" fmla="*/ 2232360 w 2232000"/>
              <a:gd name="textAreaTop" fmla="*/ 0 h 784440"/>
              <a:gd name="textAreaBottom" fmla="*/ 784800 h 784440"/>
            </a:gdLst>
            <a:ahLst/>
            <a:rect l="textAreaLeft" t="textAreaTop" r="textAreaRight" b="textAreaBottom"/>
            <a:pathLst>
              <a:path w="2232025" h="784225">
                <a:moveTo>
                  <a:pt x="0" y="784225"/>
                </a:moveTo>
                <a:lnTo>
                  <a:pt x="0" y="441127"/>
                </a:lnTo>
                <a:cubicBezTo>
                  <a:pt x="0" y="251639"/>
                  <a:pt x="153610" y="98029"/>
                  <a:pt x="343098" y="98029"/>
                </a:cubicBezTo>
                <a:cubicBezTo>
                  <a:pt x="343098" y="98029"/>
                  <a:pt x="343098" y="98029"/>
                  <a:pt x="343098" y="98029"/>
                </a:cubicBezTo>
                <a:lnTo>
                  <a:pt x="2035969" y="98028"/>
                </a:lnTo>
                <a:lnTo>
                  <a:pt x="2035969" y="0"/>
                </a:lnTo>
                <a:lnTo>
                  <a:pt x="2232025" y="196056"/>
                </a:lnTo>
                <a:lnTo>
                  <a:pt x="2035969" y="392113"/>
                </a:lnTo>
                <a:lnTo>
                  <a:pt x="2035969" y="294084"/>
                </a:lnTo>
                <a:lnTo>
                  <a:pt x="343098" y="294084"/>
                </a:lnTo>
                <a:lnTo>
                  <a:pt x="343097" y="294084"/>
                </a:lnTo>
                <a:cubicBezTo>
                  <a:pt x="261888" y="294084"/>
                  <a:pt x="196056" y="359916"/>
                  <a:pt x="196056" y="441125"/>
                </a:cubicBezTo>
                <a:lnTo>
                  <a:pt x="196056" y="784225"/>
                </a:lnTo>
                <a:lnTo>
                  <a:pt x="0" y="784225"/>
                </a:lnTo>
                <a:close/>
              </a:path>
            </a:pathLst>
          </a:custGeom>
          <a:solidFill>
            <a:srgbClr val="ff0000">
              <a:alpha val="35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Freeform 12"/>
          <p:cNvSpPr/>
          <p:nvPr/>
        </p:nvSpPr>
        <p:spPr>
          <a:xfrm flipV="1">
            <a:off x="1771560" y="3725280"/>
            <a:ext cx="2232000" cy="718920"/>
          </a:xfrm>
          <a:custGeom>
            <a:avLst/>
            <a:gdLst>
              <a:gd name="textAreaLeft" fmla="*/ 0 w 2232000"/>
              <a:gd name="textAreaRight" fmla="*/ 2232360 w 2232000"/>
              <a:gd name="textAreaTop" fmla="*/ -360 h 718920"/>
              <a:gd name="textAreaBottom" fmla="*/ 718920 h 718920"/>
            </a:gdLst>
            <a:ahLst/>
            <a:rect l="textAreaLeft" t="textAreaTop" r="textAreaRight" b="textAreaBottom"/>
            <a:pathLst>
              <a:path w="2232025" h="719137">
                <a:moveTo>
                  <a:pt x="0" y="719137"/>
                </a:moveTo>
                <a:lnTo>
                  <a:pt x="0" y="404515"/>
                </a:lnTo>
                <a:cubicBezTo>
                  <a:pt x="0" y="230754"/>
                  <a:pt x="140861" y="89893"/>
                  <a:pt x="314622" y="89893"/>
                </a:cubicBezTo>
                <a:cubicBezTo>
                  <a:pt x="314622" y="89893"/>
                  <a:pt x="314622" y="89893"/>
                  <a:pt x="314622" y="89893"/>
                </a:cubicBezTo>
                <a:lnTo>
                  <a:pt x="2052241" y="89892"/>
                </a:lnTo>
                <a:lnTo>
                  <a:pt x="2052241" y="0"/>
                </a:lnTo>
                <a:lnTo>
                  <a:pt x="2232025" y="179784"/>
                </a:lnTo>
                <a:lnTo>
                  <a:pt x="2052241" y="359569"/>
                </a:lnTo>
                <a:lnTo>
                  <a:pt x="2052241" y="269676"/>
                </a:lnTo>
                <a:lnTo>
                  <a:pt x="314622" y="269676"/>
                </a:lnTo>
                <a:lnTo>
                  <a:pt x="314621" y="269676"/>
                </a:lnTo>
                <a:cubicBezTo>
                  <a:pt x="240153" y="269676"/>
                  <a:pt x="179784" y="330045"/>
                  <a:pt x="179784" y="404513"/>
                </a:cubicBezTo>
                <a:lnTo>
                  <a:pt x="179784" y="719137"/>
                </a:lnTo>
                <a:lnTo>
                  <a:pt x="0" y="719137"/>
                </a:lnTo>
                <a:close/>
              </a:path>
            </a:pathLst>
          </a:custGeom>
          <a:solidFill>
            <a:srgbClr val="0070c0">
              <a:alpha val="35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Freeform 13"/>
          <p:cNvSpPr/>
          <p:nvPr/>
        </p:nvSpPr>
        <p:spPr>
          <a:xfrm flipV="1">
            <a:off x="4643280" y="4724280"/>
            <a:ext cx="2232360" cy="720720"/>
          </a:xfrm>
          <a:custGeom>
            <a:avLst/>
            <a:gdLst>
              <a:gd name="textAreaLeft" fmla="*/ 0 w 2232360"/>
              <a:gd name="textAreaRight" fmla="*/ 2232720 w 2232360"/>
              <a:gd name="textAreaTop" fmla="*/ 360 h 720720"/>
              <a:gd name="textAreaBottom" fmla="*/ 721440 h 720720"/>
            </a:gdLst>
            <a:ahLst/>
            <a:rect l="textAreaLeft" t="textAreaTop" r="textAreaRight" b="textAreaBottom"/>
            <a:pathLst>
              <a:path w="2232025" h="720725">
                <a:moveTo>
                  <a:pt x="0" y="720725"/>
                </a:moveTo>
                <a:lnTo>
                  <a:pt x="0" y="405408"/>
                </a:lnTo>
                <a:cubicBezTo>
                  <a:pt x="0" y="231263"/>
                  <a:pt x="141172" y="90091"/>
                  <a:pt x="315317" y="90091"/>
                </a:cubicBezTo>
                <a:cubicBezTo>
                  <a:pt x="315317" y="90091"/>
                  <a:pt x="315317" y="90091"/>
                  <a:pt x="315317" y="90091"/>
                </a:cubicBezTo>
                <a:lnTo>
                  <a:pt x="2051844" y="90091"/>
                </a:lnTo>
                <a:lnTo>
                  <a:pt x="2051844" y="0"/>
                </a:lnTo>
                <a:lnTo>
                  <a:pt x="2232025" y="180181"/>
                </a:lnTo>
                <a:lnTo>
                  <a:pt x="2051844" y="360363"/>
                </a:lnTo>
                <a:lnTo>
                  <a:pt x="2051844" y="270272"/>
                </a:lnTo>
                <a:lnTo>
                  <a:pt x="315317" y="270272"/>
                </a:lnTo>
                <a:lnTo>
                  <a:pt x="315316" y="270272"/>
                </a:lnTo>
                <a:cubicBezTo>
                  <a:pt x="240683" y="270272"/>
                  <a:pt x="180181" y="330774"/>
                  <a:pt x="180181" y="405407"/>
                </a:cubicBezTo>
                <a:lnTo>
                  <a:pt x="180181" y="720725"/>
                </a:lnTo>
                <a:lnTo>
                  <a:pt x="0" y="720725"/>
                </a:lnTo>
                <a:close/>
              </a:path>
            </a:pathLst>
          </a:custGeom>
          <a:solidFill>
            <a:srgbClr val="00b0f0">
              <a:alpha val="35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Text Box 14"/>
          <p:cNvSpPr/>
          <p:nvPr/>
        </p:nvSpPr>
        <p:spPr>
          <a:xfrm>
            <a:off x="1116000" y="321300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70c0"/>
                </a:solidFill>
                <a:latin typeface="Arial"/>
              </a:rPr>
              <a:t>Oxígen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Text Box 15"/>
          <p:cNvSpPr/>
          <p:nvPr/>
        </p:nvSpPr>
        <p:spPr>
          <a:xfrm>
            <a:off x="971640" y="5229360"/>
            <a:ext cx="187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Arial"/>
              </a:rPr>
              <a:t>Hidratos de carbon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Text Box 16"/>
          <p:cNvSpPr/>
          <p:nvPr/>
        </p:nvSpPr>
        <p:spPr>
          <a:xfrm>
            <a:off x="6875640" y="3357720"/>
            <a:ext cx="194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ffc000"/>
                </a:solidFill>
                <a:latin typeface="Arial"/>
              </a:rPr>
              <a:t>Dióxido de carbon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Text Box 17"/>
          <p:cNvSpPr/>
          <p:nvPr/>
        </p:nvSpPr>
        <p:spPr>
          <a:xfrm>
            <a:off x="6948360" y="501336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b0f0"/>
                </a:solidFill>
                <a:latin typeface="Arial"/>
              </a:rPr>
              <a:t>Agu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Text Box 18"/>
          <p:cNvSpPr/>
          <p:nvPr/>
        </p:nvSpPr>
        <p:spPr>
          <a:xfrm>
            <a:off x="6948360" y="5580000"/>
            <a:ext cx="1871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008700"/>
                </a:solidFill>
                <a:latin typeface="Arial"/>
              </a:rPr>
              <a:t>Respiración en una mitocondri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AutoShape 19"/>
          <p:cNvSpPr/>
          <p:nvPr/>
        </p:nvSpPr>
        <p:spPr>
          <a:xfrm>
            <a:off x="3995640" y="6237360"/>
            <a:ext cx="432000" cy="43164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18" h="21600">
                <a:moveTo>
                  <a:pt x="0" y="0"/>
                </a:moveTo>
                <a:lnTo>
                  <a:pt x="21618" y="0"/>
                </a:lnTo>
                <a:lnTo>
                  <a:pt x="21618" y="21600"/>
                </a:lnTo>
                <a:lnTo>
                  <a:pt x="0" y="21600"/>
                </a:lnTo>
                <a:close/>
              </a:path>
              <a:path fill="lightenLess" w="21618" h="21600">
                <a:moveTo>
                  <a:pt x="0" y="0"/>
                </a:moveTo>
                <a:lnTo>
                  <a:pt x="21618" y="0"/>
                </a:lnTo>
                <a:lnTo>
                  <a:pt x="20218" y="1400"/>
                </a:lnTo>
                <a:lnTo>
                  <a:pt x="1400" y="1400"/>
                </a:lnTo>
                <a:close/>
              </a:path>
              <a:path fill="darken" w="21618" h="21600">
                <a:moveTo>
                  <a:pt x="21618" y="0"/>
                </a:moveTo>
                <a:lnTo>
                  <a:pt x="21618" y="21600"/>
                </a:lnTo>
                <a:lnTo>
                  <a:pt x="20218" y="20200"/>
                </a:lnTo>
                <a:lnTo>
                  <a:pt x="20218" y="1400"/>
                </a:lnTo>
                <a:close/>
              </a:path>
              <a:path fill="darkenLess" w="21618" h="21600">
                <a:moveTo>
                  <a:pt x="216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8" y="20200"/>
                </a:lnTo>
                <a:close/>
              </a:path>
              <a:path fill="lighten" w="216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8" h="21600">
                <a:moveTo>
                  <a:pt x="7310" y="10800"/>
                </a:moveTo>
                <a:lnTo>
                  <a:pt x="17815" y="3794"/>
                </a:lnTo>
                <a:lnTo>
                  <a:pt x="17815" y="17806"/>
                </a:lnTo>
                <a:close/>
              </a:path>
              <a:path fill="darken" w="21618" h="21600">
                <a:moveTo>
                  <a:pt x="3803" y="3794"/>
                </a:moveTo>
                <a:lnTo>
                  <a:pt x="5465" y="3794"/>
                </a:lnTo>
                <a:lnTo>
                  <a:pt x="5465" y="17806"/>
                </a:lnTo>
                <a:lnTo>
                  <a:pt x="3803" y="17806"/>
                </a:lnTo>
                <a:close/>
              </a:path>
            </a:pathLst>
          </a:custGeom>
          <a:solidFill>
            <a:srgbClr val="92d050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Text Box 20"/>
          <p:cNvSpPr/>
          <p:nvPr/>
        </p:nvSpPr>
        <p:spPr>
          <a:xfrm>
            <a:off x="4427640" y="6308640"/>
            <a:ext cx="201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33cc"/>
                </a:solidFill>
                <a:latin typeface="Times New Roman"/>
              </a:rPr>
              <a:t>Volver al menú inicia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Rectangle 21"/>
          <p:cNvSpPr/>
          <p:nvPr/>
        </p:nvSpPr>
        <p:spPr>
          <a:xfrm>
            <a:off x="3922920" y="4264200"/>
            <a:ext cx="12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c00000"/>
                </a:solidFill>
                <a:latin typeface="Arial"/>
              </a:rPr>
              <a:t>Energí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1" descr=""/>
          <p:cNvPicPr/>
          <p:nvPr/>
        </p:nvPicPr>
        <p:blipFill>
          <a:blip r:embed="rId1"/>
          <a:stretch/>
        </p:blipFill>
        <p:spPr>
          <a:xfrm>
            <a:off x="2556000" y="2492280"/>
            <a:ext cx="3949560" cy="3784680"/>
          </a:xfrm>
          <a:prstGeom prst="rect">
            <a:avLst/>
          </a:prstGeom>
          <a:ln w="0">
            <a:noFill/>
          </a:ln>
        </p:spPr>
      </p:pic>
      <p:grpSp>
        <p:nvGrpSpPr>
          <p:cNvPr id="207" name="Group 2"/>
          <p:cNvGrpSpPr/>
          <p:nvPr/>
        </p:nvGrpSpPr>
        <p:grpSpPr>
          <a:xfrm>
            <a:off x="-360" y="0"/>
            <a:ext cx="9144360" cy="6858000"/>
            <a:chOff x="-360" y="0"/>
            <a:chExt cx="9144360" cy="6858000"/>
          </a:xfrm>
        </p:grpSpPr>
        <p:sp>
          <p:nvSpPr>
            <p:cNvPr id="208" name="AutoShape 3"/>
            <p:cNvSpPr/>
            <p:nvPr/>
          </p:nvSpPr>
          <p:spPr>
            <a:xfrm rot="5400000">
              <a:off x="-571680" y="571320"/>
              <a:ext cx="2208240" cy="1065240"/>
            </a:xfrm>
            <a:prstGeom prst="rtTriangl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Text Box 4"/>
            <p:cNvSpPr/>
            <p:nvPr/>
          </p:nvSpPr>
          <p:spPr>
            <a:xfrm>
              <a:off x="0" y="0"/>
              <a:ext cx="91296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UNIDAD</a:t>
              </a:r>
              <a:br>
                <a:rPr sz="1200"/>
              </a:br>
              <a:r>
                <a:rPr b="1" lang="es-ES" sz="4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4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Text Box 5"/>
            <p:cNvSpPr/>
            <p:nvPr/>
          </p:nvSpPr>
          <p:spPr>
            <a:xfrm>
              <a:off x="984240" y="90360"/>
              <a:ext cx="686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2800" spc="-1" strike="noStrike">
                  <a:solidFill>
                    <a:srgbClr val="333399"/>
                  </a:solidFill>
                  <a:latin typeface="Arial"/>
                </a:rPr>
                <a:t>Los procesos de la nutrición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Text Box 6"/>
            <p:cNvSpPr/>
            <p:nvPr/>
          </p:nvSpPr>
          <p:spPr>
            <a:xfrm>
              <a:off x="76320" y="6400800"/>
              <a:ext cx="655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1600" spc="-1" strike="noStrike">
                  <a:solidFill>
                    <a:srgbClr val="ff790b"/>
                  </a:solidFill>
                  <a:latin typeface="Arial"/>
                </a:rPr>
                <a:t>Ciencias de la Naturaleza 2.º ES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12" name="Picture 7" descr=""/>
            <p:cNvPicPr/>
            <p:nvPr/>
          </p:nvPicPr>
          <p:blipFill>
            <a:blip r:embed="rId2"/>
            <a:stretch/>
          </p:blipFill>
          <p:spPr>
            <a:xfrm>
              <a:off x="7432560" y="6280200"/>
              <a:ext cx="1711440" cy="577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3" name="Text Box 8"/>
          <p:cNvSpPr/>
          <p:nvPr/>
        </p:nvSpPr>
        <p:spPr>
          <a:xfrm>
            <a:off x="971640" y="1052640"/>
            <a:ext cx="770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8700"/>
                </a:solidFill>
                <a:latin typeface="Arial"/>
              </a:rPr>
              <a:t>Distribución de sustancias en seres unicelula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Text Box 9"/>
          <p:cNvSpPr/>
          <p:nvPr/>
        </p:nvSpPr>
        <p:spPr>
          <a:xfrm>
            <a:off x="971640" y="1563840"/>
            <a:ext cx="720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n seres unicelulares, el intercambio de sustancias con el medio se produce a través de </a:t>
            </a: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 membran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Freeform 10"/>
          <p:cNvSpPr/>
          <p:nvPr/>
        </p:nvSpPr>
        <p:spPr>
          <a:xfrm flipV="1">
            <a:off x="1692360" y="4149000"/>
            <a:ext cx="2374920" cy="647640"/>
          </a:xfrm>
          <a:custGeom>
            <a:avLst/>
            <a:gdLst>
              <a:gd name="textAreaLeft" fmla="*/ 0 w 2374920"/>
              <a:gd name="textAreaRight" fmla="*/ 2375280 w 2374920"/>
              <a:gd name="textAreaTop" fmla="*/ -360 h 647640"/>
              <a:gd name="textAreaBottom" fmla="*/ 647640 h 647640"/>
            </a:gdLst>
            <a:ahLst/>
            <a:rect l="textAreaLeft" t="textAreaTop" r="textAreaRight" b="textAreaBottom"/>
            <a:pathLst>
              <a:path w="2374900" h="647700">
                <a:moveTo>
                  <a:pt x="0" y="647700"/>
                </a:moveTo>
                <a:lnTo>
                  <a:pt x="0" y="364331"/>
                </a:lnTo>
                <a:cubicBezTo>
                  <a:pt x="0" y="207830"/>
                  <a:pt x="126868" y="80962"/>
                  <a:pt x="283368" y="80962"/>
                </a:cubicBezTo>
                <a:lnTo>
                  <a:pt x="2212975" y="80963"/>
                </a:lnTo>
                <a:lnTo>
                  <a:pt x="2212975" y="0"/>
                </a:lnTo>
                <a:lnTo>
                  <a:pt x="2374900" y="161925"/>
                </a:lnTo>
                <a:lnTo>
                  <a:pt x="2212975" y="323850"/>
                </a:lnTo>
                <a:lnTo>
                  <a:pt x="2212975" y="242888"/>
                </a:lnTo>
                <a:lnTo>
                  <a:pt x="283369" y="242888"/>
                </a:lnTo>
                <a:lnTo>
                  <a:pt x="283368" y="242888"/>
                </a:lnTo>
                <a:cubicBezTo>
                  <a:pt x="216297" y="242888"/>
                  <a:pt x="161925" y="297260"/>
                  <a:pt x="161925" y="364331"/>
                </a:cubicBezTo>
                <a:lnTo>
                  <a:pt x="161925" y="647700"/>
                </a:lnTo>
                <a:lnTo>
                  <a:pt x="0" y="647700"/>
                </a:lnTo>
                <a:close/>
              </a:path>
            </a:pathLst>
          </a:custGeom>
          <a:solidFill>
            <a:srgbClr val="0070c0">
              <a:alpha val="35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Freeform 11"/>
          <p:cNvSpPr/>
          <p:nvPr/>
        </p:nvSpPr>
        <p:spPr>
          <a:xfrm rot="5400000">
            <a:off x="5844960" y="3327120"/>
            <a:ext cx="576360" cy="2376720"/>
          </a:xfrm>
          <a:custGeom>
            <a:avLst/>
            <a:gdLst>
              <a:gd name="textAreaLeft" fmla="*/ 0 w 576360"/>
              <a:gd name="textAreaRight" fmla="*/ 576720 w 576360"/>
              <a:gd name="textAreaTop" fmla="*/ 0 h 2376720"/>
              <a:gd name="textAreaBottom" fmla="*/ 2377080 h 2376720"/>
            </a:gdLst>
            <a:ahLst/>
            <a:rect l="textAreaLeft" t="textAreaTop" r="textAreaRight" b="textAreaBottom"/>
            <a:pathLst>
              <a:path w="576262" h="2376487">
                <a:moveTo>
                  <a:pt x="0" y="2376487"/>
                </a:moveTo>
                <a:lnTo>
                  <a:pt x="0" y="324147"/>
                </a:lnTo>
                <a:cubicBezTo>
                  <a:pt x="0" y="184907"/>
                  <a:pt x="112875" y="72032"/>
                  <a:pt x="252114" y="72032"/>
                </a:cubicBezTo>
                <a:lnTo>
                  <a:pt x="432197" y="72033"/>
                </a:lnTo>
                <a:lnTo>
                  <a:pt x="432197" y="0"/>
                </a:lnTo>
                <a:lnTo>
                  <a:pt x="576262" y="144066"/>
                </a:lnTo>
                <a:lnTo>
                  <a:pt x="432197" y="288131"/>
                </a:lnTo>
                <a:lnTo>
                  <a:pt x="432197" y="216098"/>
                </a:lnTo>
                <a:lnTo>
                  <a:pt x="252115" y="216098"/>
                </a:lnTo>
                <a:lnTo>
                  <a:pt x="252114" y="216098"/>
                </a:lnTo>
                <a:cubicBezTo>
                  <a:pt x="192441" y="216098"/>
                  <a:pt x="144066" y="264473"/>
                  <a:pt x="144066" y="324146"/>
                </a:cubicBezTo>
                <a:lnTo>
                  <a:pt x="144066" y="2376487"/>
                </a:lnTo>
                <a:lnTo>
                  <a:pt x="0" y="2376487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Text Box 12"/>
          <p:cNvSpPr/>
          <p:nvPr/>
        </p:nvSpPr>
        <p:spPr>
          <a:xfrm>
            <a:off x="971640" y="368784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70c0"/>
                </a:solidFill>
                <a:latin typeface="Arial"/>
              </a:rPr>
              <a:t>Nutrien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Text Box 13"/>
          <p:cNvSpPr/>
          <p:nvPr/>
        </p:nvSpPr>
        <p:spPr>
          <a:xfrm>
            <a:off x="6227640" y="4767120"/>
            <a:ext cx="18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Arial"/>
              </a:rPr>
              <a:t>Desech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Text Box 14"/>
          <p:cNvSpPr/>
          <p:nvPr/>
        </p:nvSpPr>
        <p:spPr>
          <a:xfrm>
            <a:off x="6948360" y="2852640"/>
            <a:ext cx="1871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008700"/>
                </a:solidFill>
                <a:latin typeface="Arial"/>
              </a:rPr>
              <a:t>Intercambio de sustancias en un protozo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6T10:35:43Z</dcterms:created>
  <dc:creator>Carlos Martin</dc:creator>
  <dc:description/>
  <dc:language>en-US</dc:language>
  <cp:lastModifiedBy>jose luis</cp:lastModifiedBy>
  <dcterms:modified xsi:type="dcterms:W3CDTF">2012-10-04T16:25:27Z</dcterms:modified>
  <cp:revision>52</cp:revision>
  <dc:subject/>
  <dc:title>Presentación de PowerPoint</dc:title>
</cp:coreProperties>
</file>